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BF664D-DD84-4CB7-AFDF-01920B318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ком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пражнения в классе — Каждый обучаемый представляется и говорит в течение минуты о том, какого рода консультированием, он/она будет заниматься, когда вернется домой, обращая особое внимание н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характер своей организации — размеры, сфера деятельности, отраслевая принадлежност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вероятный тип клиентов, которых они будут обслуживат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род консультирования, которым они занимались или планируют занимать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сновы достижения качества и авторитета консультир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профессиональная компетентност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высокая личная и профессиональная этик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создание основ для долговременного сотрудничества с клиент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(как мы увидим дальше, этот принцип даже имеет свою конкретную форму оплаты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профессиональная репутац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чему мы занимаемся консультированием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приятно помогать организациям выявлять проблемы и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ходить их реш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интеллектуальный стиму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разнообраз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удовольст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судите каждый из продуктов, используя приме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верное, в силу неразвитости информационных сетей и рынка информации в России вообще, сложнее всего ответить на вопрос о возможных клиентах, которым можно было бы предложить те или иные консультационные продукты и услуги. Срели доступных для ответа на этот вопрос источников информации отметим следующ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раслевые исследования, публикуемые в открытых источниках (помогают составить список проблем, с которыми сталкивается любое предприятие данной отрасли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татистические и аналитические материалы местных административных структур (во многих областных администрациях имеется информация, характеризующая состояние конкретных отраслей и их предприятий в пределах подведомственной территории, при этом достаточно лишь выяснить, какое должностное лицо отвечает за то или иной сектор промышленности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мер: получение исследовательских материалов о состоянии стекольной промышленности в одной из центральных российских областей помогло одной из крупнейших мировых консультационных фирм сделать вывод о степени целесообразности оказания помощи по реструктурированию данной отрасли в реги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ация о деятельности потенциального клиента от его поставщиков или потребителей (последние зачастую достаточно открыто обсуждают, хотя и не все, но многие его проблемы и “узкие места”, т.к. их устранение может работать в пользу бизнеса данных поставщико/потребителей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ад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еделить основные способ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основать отобранные пунк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ъяснить причины включения в список конкретных продуктот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огда детальное знание специализации конкурента помогает найти свою нишу даже в рамках одного предмета консультирования. Так, например, существует две разновидности бизнес-планирования: для понимания текущего состояния и определение направлений дальнейшего развития предприятия и более узкий вариант - бизнес-план как экономическое обоснование финансирования. Поэтому формальная информация о том, что Ваш конкурент захватил рынок бизнес-планирования вовсе не означает, что Вам следует отказаться от этого вида услуг вовсе. Попытайтесь выяснить, на каком виде бизнес-планирования специализируется конкурент, и, если у Вас есть потенциал для другого вида - развивайте это направление. Возможны даже случае, когда Вам предложат разработать, например, финансовую часть бизнес-плана, а другими его элементами займется по договоренности иной исполнитель. (Выход на прицип поддержания необходимого качества услуг местного консультационного сообщества.)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веденные принципы предложения консультационных услуг одновременно раскрывают ключевые качества консультантов. Как видим, они подразделяются на психологические, моральные и профессиональные. Помимо принципов, на которых основаны эти качества, очевидно, существуют и их элементы. Так, например, понятие компетентности охватывает технические навыки консультанта (его академическая подготовка и практические приемы работы); опыт (от работы на предприятях определенных отраслей, юридического статуса и размеров и от деятельности как консультанта); знание отрасли и предмета консультирования (теоретическое и практическое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резвычайно важный момент, связанный с первым пунктом данного слайд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ерпеливое выслушивание мнений - не самоцель, а способ выявления реальных проблем предприятия, которые далеко не всегда совпадают с представлениями самого персон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пример, руководство одного из крупных предприятий-клиентов по программе PIES полагало, что объемы продаж в некоторых регионах падаютиз-за завышенных цен по сравнению с товарами от конкур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 самом же деле оказалось, что потребители имели претензии не к цене, а к качеству продукции. Последнее же резко снизилось из-за низкого качества поставляемого на предприятие по бартеру сырья, т.к. сырье высокого качества реализовывалось по денежным формам оплаты другим потребителям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ругим предприятием была допущена ошибка в оценке характера спроса на отдельные категории продукции, который не отличался эластичностью, и потому изменение цены не влияло на спрос. Более того, руководство завода ошибочно сосредоточилось на реализаци своей продукции как комплектующих крупным производителям (85%) вместо того, чтобы, следуя рыночной практике в других странах (50-150% от объема комплектующих), продавать продукцию в качестве запчаст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конец, на том же заводе допускался сильный крен в сторону “материально ощутимых результатов” (стремление добиться инвестирования под новые разработки) при одновременном отсутствии понимания, что перед предприятием стоят более прозаичные проблемы (экспресс-диагностика, создание многофунциональных команд, сокращение затрат, компьютерное обучение персонала), без решения которых какие-либо переговоры с потенциальными инвесторами безперспектив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ажный элемент подготовки к реализации консультационных услуг - составление предварительного заключения о клиенте. Как мы уже упоминали для заключения используются, в основном, местные источники информации. Однако, само содержание заключения нами не раскрывалось. Между тем, разработка выводов по предполагаемому клиенту включает ряд аспектов, а именно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следование слабых сторон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ку тенденций развития, возможностей и угроз внутри отрасли (влияет на разработку стратегии предприятия и в отдельных случаях приводит к выводу о переориентации бизнеса, хотя для самого руководства это выглядит неожиданным- например, предприятие-клиент по программе PIES после предоставления соотвествующей информации от консультантов всерьез задумалось не только об угрозах внутри отрасли, но и возможности переориентации производства ввиду общего кризиса автомобилестроения в России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у методов трансформации потребностей потенциального клиента  в спрос на консультационные услуг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у альтернативных вариантов оплаты для переговоро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еред тем, как выйти на потенциального клиента  с официальным предложением консультационных услуг, Вы тщательно разрабатываете структуру этого предложения, которая должна включать технические, финансовые и персональные аспекты консультационного проекта и, кроме того, содержать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блок информации в пользу Вас как наиболее подходящего партне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фактографические данные о деятельности Вашей консультационной фирм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краткая характеристика предлагаемых Вами специалисто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данные об аналогичных проектах, выполненных Вашей фирмой ранее, и их эффектив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становимся, как мы обещали ранее, на некоторых способах аргументации в пользу консультирования извне и преодоления сопротивления менеджер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1. Количественная оценка эффекта консультирования: покажите, что экономия от сокращения затрат или дополнительная прибыль значительно превышают стоимость услу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руппа консультантов по проекту PIES во Владимирской области подготовила альтернативные варианты экономии средств (в сумме более 20 млрд. рублей), сценарии развития предприятия по трем принципам образования издержек и сравнительный анализ структуры затрат данного предприятия и конкурентоспособных компаний этой же отрасл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2.Оперативное внедрение новых систем и технологий: разъясните, что предприятие экономит средства и время, уходя от метода проб и ошибок (например, правильный выбор аппаратного и программного обеспечения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3. Быстрое приобретение недоступных внутри предприятия знаний и систем (например внедрение концепции разделения продукции на товары эластичного и неэластичного спроса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4. Объективность и конфиденциальность оценок (внешний специалист оценивает ситуацию беспристрастно, что для российских директоров почти невозможно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руппе консультантов по проекту PIES во Владимирской области удалось разрушить несколько “малых империй” внутри предприятия (начальник т.н. “компьютерного центра” играл на незнании других отделов и необоснованно требовал новых затрат на оборудование и полномочий по контролю над информационными потоками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то делать, если гендиректор пассивен и даже против консультантов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ационная группа избрала в качестве “двигателя проекта” его заместителя, поскольку, владея 5% акций и будучи членом СД, он был наиболее заинтересованным в прогрессе предприятия лицом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метить отличия западного понимания термина “мозговой атаки”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включает сбор “негатива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отвергает персонификаци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труктурно деятельность консультанта на этапе диагностики включае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анализ негативных аспектов (“мозговая атака” проблем и их причин, ранжирование проблем по степени их негативного воздействия, классификация проблем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бор информации (внутренней и внешней, использование интервью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работку заключения (повторное рассмотрение причин существующих проблем, количественная оценка и утверждение списка вопросов для работы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дним из способов вовлечения в проект со-консультантов служит создание многофункциональных команд. Например, на предприятии-клиенте по программе PIES во Владимирской области такие команды были организованы решением генерального директора по целму кругу вопросов, в т.ч. бизнес-планированию, сокращению затрат, управлению персоналом, разработке новой техники, маркетингу и ценовой политике. Собрания команд проходили два раза в неделю и, как правило, включали работу по составлению списка проблем и возможных путей их решения с последующим докладом высшему руководству. Внутри команд осуществлялась ротация ответствен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метим следующие преимущества командной рабо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еративность диагностики (экономия времени и выявление неизвестного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слеживание цепочки причин (до этого исследования силами отдельных отделов не приводили к успеху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работка т.н. “непопулярных” рекомендаций самим предприятием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отвращение междоусобных войн между подразделениям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вышение эффективности работы (выработка круга актуальных решений за короткие сроки, на что раньше уходили многие месяцы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лавной многофункциональной командой в случае с рассматриваемым предприятием стал Исполнительный комитет из ключевых должностных лиц, который функционирует и по сей день как центр принятия проектов управленческих рекомендаций. Решения Исполкома оформляются официальным протоколом и представляются на утверждение генеральному директору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оссийские условия отличаются тем, что большинство предприятий, признавая ценность консультационных продуктов (причем, далеко не всех), не представляют себе, что процессы, разработанные и внедренные с участием консультантов, также являются товаром. К тому же, многие не понимают, что в случае качественного использования более совершенных деловых процессов можно добиться не меньшего экономического эффекта, чем от эксплуатации каких-то “материальных” консультационных продук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связи с этим возрастает актуальность разъяснения того, что процессы являются равноправной категорией консультирования. Более того, в России то, что относят к процессам, может занять основное место на рынке консультационных услуг, поскольку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у предприятий очень часто отсутствуют средства для приобретения “материальных” продуктов консультир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внедрение современных управленческих процессов открывает возможности для получения дополительных фмнансовых русурсов за счет внутренних источни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мер: интенсивная консультационная поддержка крупнейшего российского производителя автокомплектующих была сосредоточена главным образом на разработке современных управленческих процессов.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поводу мысли, высказанной в предпоследнем абзаце данного слайда, руководители одного из российских предприятий сказали: “Нам стало ясно, когда мы умрем, и именно это стало первым фактором нашего выживания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 жы убедить работников предприятия в необходимости такого чувствительного шага как сокращение штатов? На одном из предприятий по проекту PIES консультанты открыто сказали, что в перспективе с такой нерациональной структурой трудовых ресурсов бизнес не выживет. В сравнимых западных компаниях вспомогательный персонал обычно составляет 20% от основного (производственного), в то время как на данном предприятии этот показатель - 218%. Западные компании имеют также существенно более низкую долю менеджеров и специалистов. Даже умеренные расчеты, исходя из 50%-го отношения вспомогательного персонала к основным рабочим и 25%-госокращения других категорий показали, что общее количество занятых для выживаемости требуется сократить, по крайней мере, на 45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жде чем говорить о подходах к выполнению консультационного задания, отметим, что оно невозможно без выработки соотвествующего плана,который, по возможности, должен прилагаться к контракту на оказание консультационных услуг и имет следующие раздел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блем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вествующие проблемам консультационные продукты и процесс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ветственные консультанты и их задач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вественные со-консультанты и их обязанност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обходимая для выработки консультационных продуктовинформац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ы выполн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ремя выполнен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очные затра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 предприятии-клиенте по проекту PIES во Владимирской области подобный план был разработан в форме матрицы, утвержденной Исполнительным комитетом и генеральным директор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 этапе выполнения особую важность приобретает контроль реализации намеченных мероприятий. Возвратимся к нашему примеру предприятия-производителя автокомплектующих:такой контроль осуществлялся путем использования технологии т.н. “эффективного совещания”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матрица: положительные результаты - проблемы -последующие шаг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принцип временных пропорций на подготовку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роме того, для поддержания позитивного отношения персонала к проекту следует использовать демонстрацию эффекта от оперативных мероприят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ак, например, при разработке новых видов продукции на предприятии-клиенте во Владимирской области использован метод “пилотных производственных ячеек”, что позволило не нарушать требований режима эксплуатации оборуд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ведем примерный список вопросов для целевого интервьюпо выявлению проблем в области финансового управл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довлетворены ли Вы точностью Ваших отчетных финансовых документов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ете ли Вы издержки по отдельным категориям продукци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пособно ли Ваше предприятие прогнозировать денежные поток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граничиваются ли у Вас постоянные и переменные затраты и каким образом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суждается ли на Вашем предприятии его финансовое положение и с какой периодичностью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читаете ли Вы, что финансовые специалисты предприятия обладают удовлетворительным профессиональным уровнем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ие задачи Вашего предприятия решаются с помощью компьютерной техники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ие функции финансового управления и бухгалтерского учета отсутствуют на Вашем предприятии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ирование является разновидностью бизнеса и подчиняется законам рынка. На рынке же существуют потенциальные потребители консультационных услуг, которые имеют свои потребности. Для консультанта важно понимать, каким образом потребности, формирующиеся под влиянием внешних и внутренних факторов, трансформируются в спрос на консультационные услуги. Таким образом, приципиальная логика консультационного бизнеса должна заключаться в следующе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выявление и ранжирование по степени воздействия на бизнес тех или иных внешних факторов, действующих в данной стране и отрасл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оценка внутренних факторов компании-клиент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трансформация потребностей в список конкретных консультационных услуг, которые подходят для данного рын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которые внешние факторы, действующие в Росси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структурный переход от командной к рыночной экономике (высокие темпы инфляции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появление новых типов бизнес-структур</a:t>
            </a: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, отставание ментальных изменений в обществе от экономического развития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отсутствие стабильного законодательства (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частые изменения</a:t>
            </a: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, противоречия, различия в трактовке на разных уровнях и т.п.)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 контактах с российскими предприятиями следует подчеркивать, что их неспособность справиться с внешним негативным давлением вовсе не означает, что внутренние факторы не поддаются их воздействию. Российским предприятия в случае желания способны работать над многими внутренними проблемами и добиваться положительных результато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-видимому, для российских предприятий, если они будут готовы к компромиссам, во многих случаях будет применяться комбинированный вариант оплаты, где одна ее часть будет фиксированной, а другая - определяться по результатам работы. Для консультанта в этом случае важно включить в контракт само понятие результата, причем предпочтительно, чтобы результатом признавалась сама работа и ее конечный продукт, а не только экономический эффект в будущем (который может и отсутствовать, т.к.. внедрение рекомендаций после проекта может прекратиться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то качается наиболее предпочтительной для консультирующей стороны фиксированной оплаты, то она широко практикуется на Западе и в большинстве случаев является нормо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лата по затратам времени и материалов более характерна для долговременного варианта сотрудничества консультанта и клиента, когда последний доверяет специалисту и регулярно приглашает его для выпонения запланированных работ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 мы уже отмечали, области консультирования отличаются разнообразием и охватывают все сферы деятельности предприятия, поэтому иногда консультационные фирмы нанимают знакомых им и зарекомендовавших себя опытных специалистов , так сказать, со стороны для выполнения конкретного проекта на предприятии-клиенте, с которым заключен контракт на оказание консультационных услу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ругой способ реализации консультационных проектов заключается в том, что местная консультационная компания заключает соглашение с более крупной и авторитетной фирмой по оказанию консультационной подержки клиенту. При этом, естественно, стороны тщательно оговаривают условия своего взаимодейств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ыть может, последний вариант подойдет для многих небольших российских консультационных структур, стремящихся к расширению своего бизнеса в собственных регионах  и за их пределами. Ведь в этом случае они получают целый ряд преимуществ: доступ к новым знаниям и консультационным продуктам, экономию времени и средств на “раскручивание” собственного имени, использование репутации солидного партнера, минимизацию ошибок и т.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 данном слайде представлен один из вариантов определения этапов консультационного проекта. Однако в зависимости от отнесения к тому или иному этапу конкретных мероприятий названия стадий консультационного проекта и их содержание может меняться, что, впрочем, не изменяет существа де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 примеру, есть вариант структуры со следующими составляющим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маркетинг консультационных услуг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подготовка руководства и предприятия в целом к консультационному проекту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диагностика причин проблем предприятия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выдвижение рекомендаций и переговоры о конкретных мероприятиях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выполнение плана мероприят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- последующая поддержка и оценка результа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ак или иначе, мы попытаемся остановиться на наиболее важных аспектах каждой стадии (этапа) консультир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5040" y="9810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421160" y="6595920"/>
            <a:ext cx="23652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fld id="{9FB1922A-221D-45F5-8736-8E87678D8DB9}" type="slidenum">
              <a:rPr b="0" lang="en-US" sz="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308720" y="6578640"/>
            <a:ext cx="1163520" cy="2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Carana</a:t>
            </a:r>
            <a:r>
              <a:rPr b="0" lang="en-US" sz="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Corporation\USAID\РЦ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914400" y="380880"/>
            <a:ext cx="78487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11080" y="496800"/>
            <a:ext cx="5224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е рынка управленческого консультирования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22120" y="6429240"/>
            <a:ext cx="2444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Техника Эффективного Менеджмен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9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Консультант и менедже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924200" y="1333440"/>
            <a:ext cx="5715360" cy="5170680"/>
            <a:chOff x="1924200" y="1333440"/>
            <a:chExt cx="5715360" cy="5170680"/>
          </a:xfrm>
        </p:grpSpPr>
        <p:sp>
          <p:nvSpPr>
            <p:cNvPr id="52" name=""/>
            <p:cNvSpPr/>
            <p:nvPr/>
          </p:nvSpPr>
          <p:spPr>
            <a:xfrm>
              <a:off x="2371680" y="5999040"/>
              <a:ext cx="1019520" cy="505080"/>
            </a:xfrm>
            <a:custGeom>
              <a:avLst/>
              <a:gdLst/>
              <a:ahLst/>
              <a:rect l="0" t="0" r="r" b="b"/>
              <a:pathLst>
                <a:path w="2832" h="1403">
                  <a:moveTo>
                    <a:pt x="1813" y="0"/>
                  </a:moveTo>
                  <a:lnTo>
                    <a:pt x="370" y="119"/>
                  </a:lnTo>
                  <a:lnTo>
                    <a:pt x="224" y="211"/>
                  </a:lnTo>
                  <a:lnTo>
                    <a:pt x="136" y="317"/>
                  </a:lnTo>
                  <a:lnTo>
                    <a:pt x="57" y="436"/>
                  </a:lnTo>
                  <a:lnTo>
                    <a:pt x="0" y="635"/>
                  </a:lnTo>
                  <a:lnTo>
                    <a:pt x="8" y="856"/>
                  </a:lnTo>
                  <a:lnTo>
                    <a:pt x="57" y="975"/>
                  </a:lnTo>
                  <a:lnTo>
                    <a:pt x="136" y="1107"/>
                  </a:lnTo>
                  <a:lnTo>
                    <a:pt x="286" y="1218"/>
                  </a:lnTo>
                  <a:lnTo>
                    <a:pt x="463" y="1310"/>
                  </a:lnTo>
                  <a:lnTo>
                    <a:pt x="648" y="1363"/>
                  </a:lnTo>
                  <a:lnTo>
                    <a:pt x="802" y="1390"/>
                  </a:lnTo>
                  <a:lnTo>
                    <a:pt x="1009" y="1403"/>
                  </a:lnTo>
                  <a:lnTo>
                    <a:pt x="996" y="1390"/>
                  </a:lnTo>
                  <a:lnTo>
                    <a:pt x="2117" y="1297"/>
                  </a:lnTo>
                  <a:lnTo>
                    <a:pt x="2832" y="0"/>
                  </a:lnTo>
                  <a:lnTo>
                    <a:pt x="1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24200" y="1333440"/>
              <a:ext cx="5715360" cy="5166000"/>
            </a:xfrm>
            <a:custGeom>
              <a:avLst/>
              <a:gdLst/>
              <a:ahLst/>
              <a:rect l="0" t="0" r="r" b="b"/>
              <a:pathLst>
                <a:path w="15876" h="14350">
                  <a:moveTo>
                    <a:pt x="1001" y="26"/>
                  </a:moveTo>
                  <a:lnTo>
                    <a:pt x="890" y="52"/>
                  </a:lnTo>
                  <a:lnTo>
                    <a:pt x="745" y="114"/>
                  </a:lnTo>
                  <a:lnTo>
                    <a:pt x="568" y="246"/>
                  </a:lnTo>
                  <a:lnTo>
                    <a:pt x="335" y="436"/>
                  </a:lnTo>
                  <a:lnTo>
                    <a:pt x="167" y="643"/>
                  </a:lnTo>
                  <a:lnTo>
                    <a:pt x="70" y="859"/>
                  </a:lnTo>
                  <a:lnTo>
                    <a:pt x="30" y="1053"/>
                  </a:lnTo>
                  <a:lnTo>
                    <a:pt x="0" y="1305"/>
                  </a:lnTo>
                  <a:lnTo>
                    <a:pt x="0" y="1547"/>
                  </a:lnTo>
                  <a:lnTo>
                    <a:pt x="39" y="1755"/>
                  </a:lnTo>
                  <a:lnTo>
                    <a:pt x="70" y="1966"/>
                  </a:lnTo>
                  <a:lnTo>
                    <a:pt x="119" y="2151"/>
                  </a:lnTo>
                  <a:lnTo>
                    <a:pt x="282" y="2641"/>
                  </a:lnTo>
                  <a:lnTo>
                    <a:pt x="507" y="3183"/>
                  </a:lnTo>
                  <a:lnTo>
                    <a:pt x="842" y="3779"/>
                  </a:lnTo>
                  <a:lnTo>
                    <a:pt x="1177" y="4458"/>
                  </a:lnTo>
                  <a:lnTo>
                    <a:pt x="1516" y="5053"/>
                  </a:lnTo>
                  <a:lnTo>
                    <a:pt x="1803" y="5648"/>
                  </a:lnTo>
                  <a:lnTo>
                    <a:pt x="2143" y="6363"/>
                  </a:lnTo>
                  <a:lnTo>
                    <a:pt x="2429" y="7277"/>
                  </a:lnTo>
                  <a:lnTo>
                    <a:pt x="2623" y="8070"/>
                  </a:lnTo>
                  <a:lnTo>
                    <a:pt x="2817" y="9062"/>
                  </a:lnTo>
                  <a:lnTo>
                    <a:pt x="2910" y="10134"/>
                  </a:lnTo>
                  <a:lnTo>
                    <a:pt x="3055" y="11087"/>
                  </a:lnTo>
                  <a:lnTo>
                    <a:pt x="3055" y="11602"/>
                  </a:lnTo>
                  <a:lnTo>
                    <a:pt x="3055" y="12286"/>
                  </a:lnTo>
                  <a:lnTo>
                    <a:pt x="3055" y="12723"/>
                  </a:lnTo>
                  <a:lnTo>
                    <a:pt x="3016" y="13133"/>
                  </a:lnTo>
                  <a:lnTo>
                    <a:pt x="2861" y="13556"/>
                  </a:lnTo>
                  <a:lnTo>
                    <a:pt x="2760" y="13807"/>
                  </a:lnTo>
                  <a:lnTo>
                    <a:pt x="2623" y="14032"/>
                  </a:lnTo>
                  <a:lnTo>
                    <a:pt x="2487" y="14178"/>
                  </a:lnTo>
                  <a:lnTo>
                    <a:pt x="2390" y="14262"/>
                  </a:lnTo>
                  <a:lnTo>
                    <a:pt x="2284" y="14350"/>
                  </a:lnTo>
                  <a:lnTo>
                    <a:pt x="3699" y="14222"/>
                  </a:lnTo>
                  <a:lnTo>
                    <a:pt x="6433" y="13913"/>
                  </a:lnTo>
                  <a:lnTo>
                    <a:pt x="8696" y="13675"/>
                  </a:lnTo>
                  <a:lnTo>
                    <a:pt x="11294" y="13437"/>
                  </a:lnTo>
                  <a:lnTo>
                    <a:pt x="13230" y="13358"/>
                  </a:lnTo>
                  <a:lnTo>
                    <a:pt x="14720" y="13397"/>
                  </a:lnTo>
                  <a:lnTo>
                    <a:pt x="15104" y="13397"/>
                  </a:lnTo>
                  <a:lnTo>
                    <a:pt x="15346" y="13358"/>
                  </a:lnTo>
                  <a:lnTo>
                    <a:pt x="15492" y="13159"/>
                  </a:lnTo>
                  <a:lnTo>
                    <a:pt x="15633" y="12939"/>
                  </a:lnTo>
                  <a:lnTo>
                    <a:pt x="15756" y="12617"/>
                  </a:lnTo>
                  <a:lnTo>
                    <a:pt x="15827" y="12224"/>
                  </a:lnTo>
                  <a:lnTo>
                    <a:pt x="15876" y="11849"/>
                  </a:lnTo>
                  <a:lnTo>
                    <a:pt x="15876" y="11298"/>
                  </a:lnTo>
                  <a:lnTo>
                    <a:pt x="15853" y="10870"/>
                  </a:lnTo>
                  <a:lnTo>
                    <a:pt x="15827" y="10174"/>
                  </a:lnTo>
                  <a:lnTo>
                    <a:pt x="15681" y="9420"/>
                  </a:lnTo>
                  <a:lnTo>
                    <a:pt x="15443" y="8450"/>
                  </a:lnTo>
                  <a:lnTo>
                    <a:pt x="15152" y="7554"/>
                  </a:lnTo>
                  <a:lnTo>
                    <a:pt x="14914" y="6760"/>
                  </a:lnTo>
                  <a:lnTo>
                    <a:pt x="14526" y="5886"/>
                  </a:lnTo>
                  <a:lnTo>
                    <a:pt x="14142" y="5093"/>
                  </a:lnTo>
                  <a:lnTo>
                    <a:pt x="13807" y="4339"/>
                  </a:lnTo>
                  <a:lnTo>
                    <a:pt x="13278" y="3263"/>
                  </a:lnTo>
                  <a:lnTo>
                    <a:pt x="12987" y="2628"/>
                  </a:lnTo>
                  <a:lnTo>
                    <a:pt x="12811" y="2204"/>
                  </a:lnTo>
                  <a:lnTo>
                    <a:pt x="12714" y="1874"/>
                  </a:lnTo>
                  <a:lnTo>
                    <a:pt x="12674" y="1561"/>
                  </a:lnTo>
                  <a:lnTo>
                    <a:pt x="12674" y="1292"/>
                  </a:lnTo>
                  <a:lnTo>
                    <a:pt x="12890" y="326"/>
                  </a:lnTo>
                  <a:lnTo>
                    <a:pt x="12987" y="127"/>
                  </a:lnTo>
                  <a:lnTo>
                    <a:pt x="1155" y="0"/>
                  </a:lnTo>
                  <a:lnTo>
                    <a:pt x="1001" y="2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4080" y="1569960"/>
              <a:ext cx="471960" cy="338400"/>
            </a:xfrm>
            <a:custGeom>
              <a:avLst/>
              <a:gdLst/>
              <a:ahLst/>
              <a:rect l="0" t="0" r="r" b="b"/>
              <a:pathLst>
                <a:path w="1311" h="940">
                  <a:moveTo>
                    <a:pt x="1311" y="66"/>
                  </a:moveTo>
                  <a:lnTo>
                    <a:pt x="971" y="860"/>
                  </a:lnTo>
                  <a:lnTo>
                    <a:pt x="636" y="940"/>
                  </a:lnTo>
                  <a:lnTo>
                    <a:pt x="468" y="927"/>
                  </a:lnTo>
                  <a:lnTo>
                    <a:pt x="295" y="874"/>
                  </a:lnTo>
                  <a:lnTo>
                    <a:pt x="167" y="781"/>
                  </a:lnTo>
                  <a:lnTo>
                    <a:pt x="79" y="688"/>
                  </a:lnTo>
                  <a:lnTo>
                    <a:pt x="22" y="569"/>
                  </a:lnTo>
                  <a:lnTo>
                    <a:pt x="0" y="463"/>
                  </a:lnTo>
                  <a:lnTo>
                    <a:pt x="8" y="326"/>
                  </a:lnTo>
                  <a:lnTo>
                    <a:pt x="57" y="224"/>
                  </a:lnTo>
                  <a:lnTo>
                    <a:pt x="154" y="145"/>
                  </a:lnTo>
                  <a:lnTo>
                    <a:pt x="273" y="79"/>
                  </a:lnTo>
                  <a:lnTo>
                    <a:pt x="419" y="48"/>
                  </a:lnTo>
                  <a:lnTo>
                    <a:pt x="538" y="26"/>
                  </a:lnTo>
                  <a:lnTo>
                    <a:pt x="675" y="8"/>
                  </a:lnTo>
                  <a:lnTo>
                    <a:pt x="781" y="8"/>
                  </a:lnTo>
                  <a:lnTo>
                    <a:pt x="918" y="0"/>
                  </a:lnTo>
                  <a:lnTo>
                    <a:pt x="1311" y="6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08400" y="1550880"/>
              <a:ext cx="327240" cy="276480"/>
            </a:xfrm>
            <a:custGeom>
              <a:avLst/>
              <a:gdLst/>
              <a:ahLst/>
              <a:rect l="0" t="0" r="r" b="b"/>
              <a:pathLst>
                <a:path w="909" h="768">
                  <a:moveTo>
                    <a:pt x="0" y="92"/>
                  </a:moveTo>
                  <a:lnTo>
                    <a:pt x="167" y="194"/>
                  </a:lnTo>
                  <a:lnTo>
                    <a:pt x="246" y="291"/>
                  </a:lnTo>
                  <a:lnTo>
                    <a:pt x="286" y="393"/>
                  </a:lnTo>
                  <a:lnTo>
                    <a:pt x="295" y="538"/>
                  </a:lnTo>
                  <a:lnTo>
                    <a:pt x="264" y="658"/>
                  </a:lnTo>
                  <a:lnTo>
                    <a:pt x="167" y="768"/>
                  </a:lnTo>
                  <a:lnTo>
                    <a:pt x="909" y="636"/>
                  </a:lnTo>
                  <a:lnTo>
                    <a:pt x="847" y="0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14440" y="1336680"/>
              <a:ext cx="4783320" cy="572040"/>
            </a:xfrm>
            <a:custGeom>
              <a:avLst/>
              <a:gdLst/>
              <a:ahLst/>
              <a:rect l="0" t="0" r="r" b="b"/>
              <a:pathLst>
                <a:path w="13287" h="1589">
                  <a:moveTo>
                    <a:pt x="12573" y="119"/>
                  </a:moveTo>
                  <a:lnTo>
                    <a:pt x="0" y="0"/>
                  </a:lnTo>
                  <a:lnTo>
                    <a:pt x="352" y="48"/>
                  </a:lnTo>
                  <a:lnTo>
                    <a:pt x="480" y="79"/>
                  </a:lnTo>
                  <a:lnTo>
                    <a:pt x="617" y="127"/>
                  </a:lnTo>
                  <a:lnTo>
                    <a:pt x="705" y="198"/>
                  </a:lnTo>
                  <a:lnTo>
                    <a:pt x="811" y="304"/>
                  </a:lnTo>
                  <a:lnTo>
                    <a:pt x="859" y="433"/>
                  </a:lnTo>
                  <a:lnTo>
                    <a:pt x="890" y="565"/>
                  </a:lnTo>
                  <a:lnTo>
                    <a:pt x="903" y="697"/>
                  </a:lnTo>
                  <a:lnTo>
                    <a:pt x="912" y="807"/>
                  </a:lnTo>
                  <a:lnTo>
                    <a:pt x="890" y="975"/>
                  </a:lnTo>
                  <a:lnTo>
                    <a:pt x="859" y="1134"/>
                  </a:lnTo>
                  <a:lnTo>
                    <a:pt x="771" y="1272"/>
                  </a:lnTo>
                  <a:lnTo>
                    <a:pt x="635" y="1413"/>
                  </a:lnTo>
                  <a:lnTo>
                    <a:pt x="463" y="1505"/>
                  </a:lnTo>
                  <a:lnTo>
                    <a:pt x="330" y="1589"/>
                  </a:lnTo>
                  <a:lnTo>
                    <a:pt x="1155" y="1510"/>
                  </a:lnTo>
                  <a:lnTo>
                    <a:pt x="2068" y="1391"/>
                  </a:lnTo>
                  <a:lnTo>
                    <a:pt x="3518" y="1311"/>
                  </a:lnTo>
                  <a:lnTo>
                    <a:pt x="4722" y="1232"/>
                  </a:lnTo>
                  <a:lnTo>
                    <a:pt x="6164" y="1232"/>
                  </a:lnTo>
                  <a:lnTo>
                    <a:pt x="7753" y="1272"/>
                  </a:lnTo>
                  <a:lnTo>
                    <a:pt x="9728" y="1311"/>
                  </a:lnTo>
                  <a:lnTo>
                    <a:pt x="11611" y="1430"/>
                  </a:lnTo>
                  <a:lnTo>
                    <a:pt x="12383" y="1549"/>
                  </a:lnTo>
                  <a:lnTo>
                    <a:pt x="12599" y="1576"/>
                  </a:lnTo>
                  <a:lnTo>
                    <a:pt x="12837" y="1585"/>
                  </a:lnTo>
                  <a:lnTo>
                    <a:pt x="13005" y="1549"/>
                  </a:lnTo>
                  <a:lnTo>
                    <a:pt x="13150" y="1430"/>
                  </a:lnTo>
                  <a:lnTo>
                    <a:pt x="13230" y="1285"/>
                  </a:lnTo>
                  <a:lnTo>
                    <a:pt x="13269" y="1160"/>
                  </a:lnTo>
                  <a:lnTo>
                    <a:pt x="13287" y="1019"/>
                  </a:lnTo>
                  <a:lnTo>
                    <a:pt x="13256" y="768"/>
                  </a:lnTo>
                  <a:lnTo>
                    <a:pt x="13190" y="609"/>
                  </a:lnTo>
                  <a:lnTo>
                    <a:pt x="13093" y="446"/>
                  </a:lnTo>
                  <a:lnTo>
                    <a:pt x="13005" y="339"/>
                  </a:lnTo>
                  <a:lnTo>
                    <a:pt x="12903" y="251"/>
                  </a:lnTo>
                  <a:lnTo>
                    <a:pt x="12749" y="167"/>
                  </a:lnTo>
                  <a:lnTo>
                    <a:pt x="12573" y="119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3111480" y="1860480"/>
            <a:ext cx="300528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асть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то та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ировани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716200" y="3373560"/>
            <a:ext cx="4417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Сущность консультационных 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и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82840" y="4135320"/>
            <a:ext cx="373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Консультационные 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и клиенты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43240" y="5002200"/>
            <a:ext cx="20970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Этапы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консуль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32040" y="102384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и в услугах по управленческому консультиров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27000" y="2019240"/>
            <a:ext cx="7848720" cy="29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текающие из внешних усло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сутствие четкой и эффективной системы законодательства и налогооб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труктурный переход от командной к рыночной эконом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190440">
              <a:lnSpc>
                <a:spcPct val="90000"/>
              </a:lnSpc>
              <a:spcBef>
                <a:spcPts val="96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текающие из внутренних усло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противление переменам со стороны руководителей и рабоч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старевшая продукция и отстал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32040" y="1233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нешние факторы, не поддающиеся контролю со стороны предприят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74720" y="2571840"/>
            <a:ext cx="78487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стабильный и конфискационный характер налоговой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сокая стоимость заемного капит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сокий уровень инф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ррупционные я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лабая техническая инфраструк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нутренняя и внешняя конкурен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отработанность и противоречивость законодательства и подзаконных акт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79720" y="1638360"/>
            <a:ext cx="104760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32040" y="1004760"/>
            <a:ext cx="7848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нутренние факторы, поддающиеся воздействию со стороны пред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27000" y="1781280"/>
            <a:ext cx="784872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ь в системах для управления затра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обходимость оптимизировать налоговое план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ь в разработке новых продуктов и установке нового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лабая работа на новых рынках и с новыми потреб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ь в привлечении капиталов и технолог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сутствие информационных сист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ь в экономическом и финансовом планировании для пополнения собственных оборотных сред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ругие факторы (потребности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292880" y="1333440"/>
            <a:ext cx="1341360" cy="990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32040" y="1233360"/>
            <a:ext cx="7848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российских условиях особенно важно понять сложность “дилемм”, стоящих перед менедже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2171520"/>
            <a:ext cx="7772400" cy="39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щущение” необходимости помощи, но слабое представление ее содержания, методов и источ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мышления о новом при одновременном давлении традиционных стереотипов управления командной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сутствие информации при одновременной заинтересованности в получении данных о внутренней ситуации и внешних услов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тремление к самостоятельности и социальные ограничения (содержание социальных объектов, сохранение занятости, поддержка коммунального хозяйства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пытки принимать независимые серьезные решения в условиях распыленности собственного капитала среди многочисленных акцион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553080" y="1562040"/>
            <a:ext cx="1219320" cy="685800"/>
          </a:xfrm>
          <a:prstGeom prst="rect">
            <a:avLst/>
          </a:prstGeom>
          <a:solidFill>
            <a:srgbClr val="edede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32040" y="1233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меры консультационных продуктов, в которых могут нуждаться менеджеры предприя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75040" y="1943280"/>
            <a:ext cx="391968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инансовый аудит для целей налогооб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изнес-планы и финансовые пл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истемы модернизации бухгалтерского учета под международ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62120" y="1943280"/>
            <a:ext cx="380988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граммное обеспечение для финансового управления и бухгалтерского учета (с обучением персон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становка компьютерной техники и обучение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ационные системы управления затратами, сбытом и производственным процес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84800" y="4635360"/>
            <a:ext cx="2716200" cy="1708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32040" y="1233360"/>
            <a:ext cx="7848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чины сдержанного отношения российских менеджеров к привлечению консультантов для решения проблем пред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27000" y="2266920"/>
            <a:ext cx="39196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сутствие устоявшегося правила платить за “неосязаемые советы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асение критики со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оязнь утраты конфиден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сутствие гарантии конкретных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способность оценить возможности консульта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бежденность в полноте знаний о предприя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00720" y="2362320"/>
            <a:ext cx="1109520" cy="219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62640" y="2743200"/>
            <a:ext cx="1806480" cy="3200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32040" y="1233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Методы аргументации в пользу оказания внешней консультационной поддерж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27000" y="1924200"/>
            <a:ext cx="540072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личественная оценка эффекта консульт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кажите, что экономия от сокращения затрат или дополнительная прибыль значительно превышают стоимость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еративное внедрение новых систем и 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ъясните, что предприятие экономит средства и время, уходя от метода “проб и ошибок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обретение недоступных внутри предприятия знаний и сис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ъективность и конфиденциальность экспертных оце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2286000"/>
            <a:ext cx="305280" cy="228960"/>
          </a:xfrm>
          <a:custGeom>
            <a:avLst/>
            <a:gdLst/>
            <a:ahLst/>
            <a:rect l="0" t="0" r="r" b="b"/>
            <a:pathLst>
              <a:path fill="none" w="848" h="636">
                <a:moveTo>
                  <a:pt x="848" y="636"/>
                </a:moveTo>
                <a:lnTo>
                  <a:pt x="848" y="636"/>
                </a:lnTo>
                <a:lnTo>
                  <a:pt x="848" y="636"/>
                </a:lnTo>
                <a:cubicBezTo>
                  <a:pt x="848" y="524"/>
                  <a:pt x="809" y="415"/>
                  <a:pt x="734" y="318"/>
                </a:cubicBezTo>
                <a:cubicBezTo>
                  <a:pt x="660" y="221"/>
                  <a:pt x="553" y="141"/>
                  <a:pt x="424" y="85"/>
                </a:cubicBezTo>
                <a:cubicBezTo>
                  <a:pt x="295" y="29"/>
                  <a:pt x="14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38560" y="3733920"/>
            <a:ext cx="305280" cy="228960"/>
          </a:xfrm>
          <a:custGeom>
            <a:avLst/>
            <a:gdLst/>
            <a:ahLst/>
            <a:rect l="0" t="0" r="r" b="b"/>
            <a:pathLst>
              <a:path fill="none" w="848" h="636">
                <a:moveTo>
                  <a:pt x="848" y="636"/>
                </a:moveTo>
                <a:lnTo>
                  <a:pt x="848" y="636"/>
                </a:lnTo>
                <a:lnTo>
                  <a:pt x="848" y="636"/>
                </a:lnTo>
                <a:cubicBezTo>
                  <a:pt x="848" y="524"/>
                  <a:pt x="809" y="415"/>
                  <a:pt x="734" y="318"/>
                </a:cubicBezTo>
                <a:cubicBezTo>
                  <a:pt x="660" y="221"/>
                  <a:pt x="553" y="141"/>
                  <a:pt x="424" y="85"/>
                </a:cubicBezTo>
                <a:cubicBezTo>
                  <a:pt x="295" y="29"/>
                  <a:pt x="14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2000160" y="1333440"/>
            <a:ext cx="5715360" cy="5170680"/>
            <a:chOff x="2000160" y="1333440"/>
            <a:chExt cx="5715360" cy="5170680"/>
          </a:xfrm>
        </p:grpSpPr>
        <p:sp>
          <p:nvSpPr>
            <p:cNvPr id="201" name=""/>
            <p:cNvSpPr/>
            <p:nvPr/>
          </p:nvSpPr>
          <p:spPr>
            <a:xfrm>
              <a:off x="2448000" y="5999040"/>
              <a:ext cx="1019520" cy="505080"/>
            </a:xfrm>
            <a:custGeom>
              <a:avLst/>
              <a:gdLst/>
              <a:ahLst/>
              <a:rect l="0" t="0" r="r" b="b"/>
              <a:pathLst>
                <a:path w="2832" h="1403">
                  <a:moveTo>
                    <a:pt x="1813" y="0"/>
                  </a:moveTo>
                  <a:lnTo>
                    <a:pt x="370" y="119"/>
                  </a:lnTo>
                  <a:lnTo>
                    <a:pt x="224" y="211"/>
                  </a:lnTo>
                  <a:lnTo>
                    <a:pt x="136" y="317"/>
                  </a:lnTo>
                  <a:lnTo>
                    <a:pt x="57" y="436"/>
                  </a:lnTo>
                  <a:lnTo>
                    <a:pt x="0" y="635"/>
                  </a:lnTo>
                  <a:lnTo>
                    <a:pt x="8" y="856"/>
                  </a:lnTo>
                  <a:lnTo>
                    <a:pt x="57" y="975"/>
                  </a:lnTo>
                  <a:lnTo>
                    <a:pt x="136" y="1107"/>
                  </a:lnTo>
                  <a:lnTo>
                    <a:pt x="286" y="1218"/>
                  </a:lnTo>
                  <a:lnTo>
                    <a:pt x="463" y="1310"/>
                  </a:lnTo>
                  <a:lnTo>
                    <a:pt x="648" y="1363"/>
                  </a:lnTo>
                  <a:lnTo>
                    <a:pt x="802" y="1390"/>
                  </a:lnTo>
                  <a:lnTo>
                    <a:pt x="1009" y="1403"/>
                  </a:lnTo>
                  <a:lnTo>
                    <a:pt x="996" y="1390"/>
                  </a:lnTo>
                  <a:lnTo>
                    <a:pt x="2117" y="1297"/>
                  </a:lnTo>
                  <a:lnTo>
                    <a:pt x="2832" y="0"/>
                  </a:lnTo>
                  <a:lnTo>
                    <a:pt x="1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00160" y="1333440"/>
              <a:ext cx="5715360" cy="5166000"/>
            </a:xfrm>
            <a:custGeom>
              <a:avLst/>
              <a:gdLst/>
              <a:ahLst/>
              <a:rect l="0" t="0" r="r" b="b"/>
              <a:pathLst>
                <a:path w="15876" h="14350">
                  <a:moveTo>
                    <a:pt x="1001" y="26"/>
                  </a:moveTo>
                  <a:lnTo>
                    <a:pt x="890" y="52"/>
                  </a:lnTo>
                  <a:lnTo>
                    <a:pt x="745" y="114"/>
                  </a:lnTo>
                  <a:lnTo>
                    <a:pt x="568" y="246"/>
                  </a:lnTo>
                  <a:lnTo>
                    <a:pt x="335" y="436"/>
                  </a:lnTo>
                  <a:lnTo>
                    <a:pt x="167" y="643"/>
                  </a:lnTo>
                  <a:lnTo>
                    <a:pt x="70" y="859"/>
                  </a:lnTo>
                  <a:lnTo>
                    <a:pt x="30" y="1053"/>
                  </a:lnTo>
                  <a:lnTo>
                    <a:pt x="0" y="1305"/>
                  </a:lnTo>
                  <a:lnTo>
                    <a:pt x="0" y="1547"/>
                  </a:lnTo>
                  <a:lnTo>
                    <a:pt x="39" y="1755"/>
                  </a:lnTo>
                  <a:lnTo>
                    <a:pt x="70" y="1966"/>
                  </a:lnTo>
                  <a:lnTo>
                    <a:pt x="119" y="2151"/>
                  </a:lnTo>
                  <a:lnTo>
                    <a:pt x="282" y="2641"/>
                  </a:lnTo>
                  <a:lnTo>
                    <a:pt x="507" y="3183"/>
                  </a:lnTo>
                  <a:lnTo>
                    <a:pt x="842" y="3779"/>
                  </a:lnTo>
                  <a:lnTo>
                    <a:pt x="1177" y="4458"/>
                  </a:lnTo>
                  <a:lnTo>
                    <a:pt x="1516" y="5053"/>
                  </a:lnTo>
                  <a:lnTo>
                    <a:pt x="1803" y="5648"/>
                  </a:lnTo>
                  <a:lnTo>
                    <a:pt x="2143" y="6363"/>
                  </a:lnTo>
                  <a:lnTo>
                    <a:pt x="2429" y="7277"/>
                  </a:lnTo>
                  <a:lnTo>
                    <a:pt x="2623" y="8070"/>
                  </a:lnTo>
                  <a:lnTo>
                    <a:pt x="2817" y="9062"/>
                  </a:lnTo>
                  <a:lnTo>
                    <a:pt x="2910" y="10134"/>
                  </a:lnTo>
                  <a:lnTo>
                    <a:pt x="3055" y="11087"/>
                  </a:lnTo>
                  <a:lnTo>
                    <a:pt x="3055" y="11602"/>
                  </a:lnTo>
                  <a:lnTo>
                    <a:pt x="3055" y="12286"/>
                  </a:lnTo>
                  <a:lnTo>
                    <a:pt x="3055" y="12723"/>
                  </a:lnTo>
                  <a:lnTo>
                    <a:pt x="3016" y="13133"/>
                  </a:lnTo>
                  <a:lnTo>
                    <a:pt x="2861" y="13556"/>
                  </a:lnTo>
                  <a:lnTo>
                    <a:pt x="2760" y="13807"/>
                  </a:lnTo>
                  <a:lnTo>
                    <a:pt x="2623" y="14032"/>
                  </a:lnTo>
                  <a:lnTo>
                    <a:pt x="2487" y="14178"/>
                  </a:lnTo>
                  <a:lnTo>
                    <a:pt x="2390" y="14262"/>
                  </a:lnTo>
                  <a:lnTo>
                    <a:pt x="2284" y="14350"/>
                  </a:lnTo>
                  <a:lnTo>
                    <a:pt x="3699" y="14222"/>
                  </a:lnTo>
                  <a:lnTo>
                    <a:pt x="6433" y="13913"/>
                  </a:lnTo>
                  <a:lnTo>
                    <a:pt x="8696" y="13675"/>
                  </a:lnTo>
                  <a:lnTo>
                    <a:pt x="11294" y="13437"/>
                  </a:lnTo>
                  <a:lnTo>
                    <a:pt x="13230" y="13358"/>
                  </a:lnTo>
                  <a:lnTo>
                    <a:pt x="14720" y="13397"/>
                  </a:lnTo>
                  <a:lnTo>
                    <a:pt x="15104" y="13397"/>
                  </a:lnTo>
                  <a:lnTo>
                    <a:pt x="15346" y="13358"/>
                  </a:lnTo>
                  <a:lnTo>
                    <a:pt x="15492" y="13159"/>
                  </a:lnTo>
                  <a:lnTo>
                    <a:pt x="15633" y="12939"/>
                  </a:lnTo>
                  <a:lnTo>
                    <a:pt x="15756" y="12617"/>
                  </a:lnTo>
                  <a:lnTo>
                    <a:pt x="15827" y="12224"/>
                  </a:lnTo>
                  <a:lnTo>
                    <a:pt x="15876" y="11849"/>
                  </a:lnTo>
                  <a:lnTo>
                    <a:pt x="15876" y="11298"/>
                  </a:lnTo>
                  <a:lnTo>
                    <a:pt x="15853" y="10870"/>
                  </a:lnTo>
                  <a:lnTo>
                    <a:pt x="15827" y="10174"/>
                  </a:lnTo>
                  <a:lnTo>
                    <a:pt x="15681" y="9420"/>
                  </a:lnTo>
                  <a:lnTo>
                    <a:pt x="15443" y="8450"/>
                  </a:lnTo>
                  <a:lnTo>
                    <a:pt x="15152" y="7554"/>
                  </a:lnTo>
                  <a:lnTo>
                    <a:pt x="14914" y="6760"/>
                  </a:lnTo>
                  <a:lnTo>
                    <a:pt x="14526" y="5886"/>
                  </a:lnTo>
                  <a:lnTo>
                    <a:pt x="14142" y="5093"/>
                  </a:lnTo>
                  <a:lnTo>
                    <a:pt x="13807" y="4339"/>
                  </a:lnTo>
                  <a:lnTo>
                    <a:pt x="13278" y="3263"/>
                  </a:lnTo>
                  <a:lnTo>
                    <a:pt x="12987" y="2628"/>
                  </a:lnTo>
                  <a:lnTo>
                    <a:pt x="12811" y="2204"/>
                  </a:lnTo>
                  <a:lnTo>
                    <a:pt x="12714" y="1874"/>
                  </a:lnTo>
                  <a:lnTo>
                    <a:pt x="12674" y="1561"/>
                  </a:lnTo>
                  <a:lnTo>
                    <a:pt x="12674" y="1292"/>
                  </a:lnTo>
                  <a:lnTo>
                    <a:pt x="12890" y="326"/>
                  </a:lnTo>
                  <a:lnTo>
                    <a:pt x="12987" y="127"/>
                  </a:lnTo>
                  <a:lnTo>
                    <a:pt x="1155" y="0"/>
                  </a:lnTo>
                  <a:lnTo>
                    <a:pt x="1001" y="2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0400" y="1569960"/>
              <a:ext cx="471960" cy="338400"/>
            </a:xfrm>
            <a:custGeom>
              <a:avLst/>
              <a:gdLst/>
              <a:ahLst/>
              <a:rect l="0" t="0" r="r" b="b"/>
              <a:pathLst>
                <a:path w="1311" h="940">
                  <a:moveTo>
                    <a:pt x="1311" y="66"/>
                  </a:moveTo>
                  <a:lnTo>
                    <a:pt x="971" y="860"/>
                  </a:lnTo>
                  <a:lnTo>
                    <a:pt x="636" y="940"/>
                  </a:lnTo>
                  <a:lnTo>
                    <a:pt x="468" y="927"/>
                  </a:lnTo>
                  <a:lnTo>
                    <a:pt x="295" y="874"/>
                  </a:lnTo>
                  <a:lnTo>
                    <a:pt x="167" y="781"/>
                  </a:lnTo>
                  <a:lnTo>
                    <a:pt x="79" y="688"/>
                  </a:lnTo>
                  <a:lnTo>
                    <a:pt x="22" y="569"/>
                  </a:lnTo>
                  <a:lnTo>
                    <a:pt x="0" y="463"/>
                  </a:lnTo>
                  <a:lnTo>
                    <a:pt x="8" y="326"/>
                  </a:lnTo>
                  <a:lnTo>
                    <a:pt x="57" y="224"/>
                  </a:lnTo>
                  <a:lnTo>
                    <a:pt x="154" y="145"/>
                  </a:lnTo>
                  <a:lnTo>
                    <a:pt x="273" y="79"/>
                  </a:lnTo>
                  <a:lnTo>
                    <a:pt x="419" y="48"/>
                  </a:lnTo>
                  <a:lnTo>
                    <a:pt x="538" y="26"/>
                  </a:lnTo>
                  <a:lnTo>
                    <a:pt x="675" y="8"/>
                  </a:lnTo>
                  <a:lnTo>
                    <a:pt x="781" y="8"/>
                  </a:lnTo>
                  <a:lnTo>
                    <a:pt x="918" y="0"/>
                  </a:lnTo>
                  <a:lnTo>
                    <a:pt x="1311" y="6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360" y="1550880"/>
              <a:ext cx="327240" cy="276480"/>
            </a:xfrm>
            <a:custGeom>
              <a:avLst/>
              <a:gdLst/>
              <a:ahLst/>
              <a:rect l="0" t="0" r="r" b="b"/>
              <a:pathLst>
                <a:path w="909" h="768">
                  <a:moveTo>
                    <a:pt x="0" y="92"/>
                  </a:moveTo>
                  <a:lnTo>
                    <a:pt x="167" y="194"/>
                  </a:lnTo>
                  <a:lnTo>
                    <a:pt x="246" y="291"/>
                  </a:lnTo>
                  <a:lnTo>
                    <a:pt x="286" y="393"/>
                  </a:lnTo>
                  <a:lnTo>
                    <a:pt x="295" y="538"/>
                  </a:lnTo>
                  <a:lnTo>
                    <a:pt x="264" y="658"/>
                  </a:lnTo>
                  <a:lnTo>
                    <a:pt x="167" y="768"/>
                  </a:lnTo>
                  <a:lnTo>
                    <a:pt x="909" y="636"/>
                  </a:lnTo>
                  <a:lnTo>
                    <a:pt x="847" y="0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90760" y="1336680"/>
              <a:ext cx="4783320" cy="572040"/>
            </a:xfrm>
            <a:custGeom>
              <a:avLst/>
              <a:gdLst/>
              <a:ahLst/>
              <a:rect l="0" t="0" r="r" b="b"/>
              <a:pathLst>
                <a:path w="13287" h="1589">
                  <a:moveTo>
                    <a:pt x="12573" y="119"/>
                  </a:moveTo>
                  <a:lnTo>
                    <a:pt x="0" y="0"/>
                  </a:lnTo>
                  <a:lnTo>
                    <a:pt x="352" y="48"/>
                  </a:lnTo>
                  <a:lnTo>
                    <a:pt x="480" y="79"/>
                  </a:lnTo>
                  <a:lnTo>
                    <a:pt x="617" y="127"/>
                  </a:lnTo>
                  <a:lnTo>
                    <a:pt x="705" y="198"/>
                  </a:lnTo>
                  <a:lnTo>
                    <a:pt x="811" y="304"/>
                  </a:lnTo>
                  <a:lnTo>
                    <a:pt x="859" y="433"/>
                  </a:lnTo>
                  <a:lnTo>
                    <a:pt x="890" y="565"/>
                  </a:lnTo>
                  <a:lnTo>
                    <a:pt x="903" y="697"/>
                  </a:lnTo>
                  <a:lnTo>
                    <a:pt x="912" y="807"/>
                  </a:lnTo>
                  <a:lnTo>
                    <a:pt x="890" y="975"/>
                  </a:lnTo>
                  <a:lnTo>
                    <a:pt x="859" y="1134"/>
                  </a:lnTo>
                  <a:lnTo>
                    <a:pt x="771" y="1272"/>
                  </a:lnTo>
                  <a:lnTo>
                    <a:pt x="635" y="1413"/>
                  </a:lnTo>
                  <a:lnTo>
                    <a:pt x="463" y="1505"/>
                  </a:lnTo>
                  <a:lnTo>
                    <a:pt x="330" y="1589"/>
                  </a:lnTo>
                  <a:lnTo>
                    <a:pt x="1155" y="1510"/>
                  </a:lnTo>
                  <a:lnTo>
                    <a:pt x="2068" y="1391"/>
                  </a:lnTo>
                  <a:lnTo>
                    <a:pt x="3518" y="1311"/>
                  </a:lnTo>
                  <a:lnTo>
                    <a:pt x="4722" y="1232"/>
                  </a:lnTo>
                  <a:lnTo>
                    <a:pt x="6164" y="1232"/>
                  </a:lnTo>
                  <a:lnTo>
                    <a:pt x="7753" y="1272"/>
                  </a:lnTo>
                  <a:lnTo>
                    <a:pt x="9728" y="1311"/>
                  </a:lnTo>
                  <a:lnTo>
                    <a:pt x="11611" y="1430"/>
                  </a:lnTo>
                  <a:lnTo>
                    <a:pt x="12383" y="1549"/>
                  </a:lnTo>
                  <a:lnTo>
                    <a:pt x="12599" y="1576"/>
                  </a:lnTo>
                  <a:lnTo>
                    <a:pt x="12837" y="1585"/>
                  </a:lnTo>
                  <a:lnTo>
                    <a:pt x="13005" y="1549"/>
                  </a:lnTo>
                  <a:lnTo>
                    <a:pt x="13150" y="1430"/>
                  </a:lnTo>
                  <a:lnTo>
                    <a:pt x="13230" y="1285"/>
                  </a:lnTo>
                  <a:lnTo>
                    <a:pt x="13269" y="1160"/>
                  </a:lnTo>
                  <a:lnTo>
                    <a:pt x="13287" y="1019"/>
                  </a:lnTo>
                  <a:lnTo>
                    <a:pt x="13256" y="768"/>
                  </a:lnTo>
                  <a:lnTo>
                    <a:pt x="13190" y="609"/>
                  </a:lnTo>
                  <a:lnTo>
                    <a:pt x="13093" y="446"/>
                  </a:lnTo>
                  <a:lnTo>
                    <a:pt x="13005" y="339"/>
                  </a:lnTo>
                  <a:lnTo>
                    <a:pt x="12903" y="251"/>
                  </a:lnTo>
                  <a:lnTo>
                    <a:pt x="12749" y="167"/>
                  </a:lnTo>
                  <a:lnTo>
                    <a:pt x="12573" y="119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 txBox="1"/>
          <p:nvPr/>
        </p:nvSpPr>
        <p:spPr>
          <a:xfrm>
            <a:off x="2008080" y="1793880"/>
            <a:ext cx="49831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асть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е консультационной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71760" y="297180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сновы эффективного консуль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своей фирмы, рынка, клиентов и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консультацион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932040" y="1233360"/>
            <a:ext cx="78487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е эффективной консультационной прак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343400" y="1714680"/>
            <a:ext cx="4191120" cy="29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сновы достижения качества и авторитета консультир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190440">
              <a:lnSpc>
                <a:spcPct val="90000"/>
              </a:lnSpc>
              <a:spcBef>
                <a:spcPts val="96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190440">
              <a:lnSpc>
                <a:spcPct val="90000"/>
              </a:lnSpc>
              <a:spcBef>
                <a:spcPts val="96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фессиональная компете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ичная и профессиональная э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олговременное сотрудни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фессиональная репу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352680" cy="2819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95880" y="2438280"/>
            <a:ext cx="228960" cy="838440"/>
          </a:xfrm>
          <a:custGeom>
            <a:avLst/>
            <a:gdLst/>
            <a:ahLst/>
            <a:rect l="0" t="0" r="r" b="b"/>
            <a:pathLst>
              <a:path w="636" h="2329">
                <a:moveTo>
                  <a:pt x="636" y="775"/>
                </a:moveTo>
                <a:lnTo>
                  <a:pt x="636" y="1551"/>
                </a:lnTo>
                <a:lnTo>
                  <a:pt x="190" y="1551"/>
                </a:lnTo>
                <a:lnTo>
                  <a:pt x="190" y="2329"/>
                </a:lnTo>
                <a:lnTo>
                  <a:pt x="0" y="1165"/>
                </a:lnTo>
                <a:lnTo>
                  <a:pt x="190" y="0"/>
                </a:lnTo>
                <a:lnTo>
                  <a:pt x="190" y="775"/>
                </a:lnTo>
                <a:lnTo>
                  <a:pt x="636" y="775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32040" y="1233360"/>
            <a:ext cx="7848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лидное консультирование основано на четырех ки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87480" y="2117880"/>
            <a:ext cx="6122880" cy="3773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914480" y="2152800"/>
            <a:ext cx="225252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КОМПЕТЕН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· Специальные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· Опы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810400" y="2152800"/>
            <a:ext cx="2997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ЕПУ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Выгоды/Затр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Объе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· Применим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05120" y="4809960"/>
            <a:ext cx="3954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Э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· Пожелания клиен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стоят на перво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· 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81600" y="4991040"/>
            <a:ext cx="210672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300" spc="-1" strike="noStrike">
                <a:solidFill>
                  <a:srgbClr val="cecece"/>
                </a:solidFill>
                <a:latin typeface="Times New Roman Cyr"/>
                <a:ea typeface="Times New Roman Cyr"/>
              </a:rPr>
              <a:t>ВЗАИМООТНОШ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300" spc="-1" strike="noStrike">
                <a:solidFill>
                  <a:srgbClr val="cecece"/>
                </a:solidFill>
                <a:latin typeface="Times New Roman Cyr"/>
                <a:ea typeface="Times New Roman Cyr"/>
              </a:rPr>
              <a:t>· Клиен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300" spc="-1" strike="noStrike">
                <a:solidFill>
                  <a:srgbClr val="cecece"/>
                </a:solidFill>
                <a:latin typeface="Times New Roman Cyr"/>
                <a:ea typeface="Times New Roman Cyr"/>
              </a:rPr>
              <a:t>· Коллег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300" spc="-1" strike="noStrike">
                <a:solidFill>
                  <a:srgbClr val="cecece"/>
                </a:solidFill>
                <a:latin typeface="Times New Roman Cyr"/>
                <a:ea typeface="Times New Roman Cyr"/>
              </a:rPr>
              <a:t>· Источники информа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32040" y="1063800"/>
            <a:ext cx="78487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ирование — это профессиональные взаимоотношения между экспертом, обладающим знаниями и информацией, и клиентом, у которого есть проблема или потребность. Существует широкий диапазон консультационных продуктов и процес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24600" y="684360"/>
            <a:ext cx="2435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Что такое консультирова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76960" y="2001960"/>
            <a:ext cx="7142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099200" y="2684520"/>
            <a:ext cx="6714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299360" y="3630600"/>
            <a:ext cx="1171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грамм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28000" y="4870440"/>
            <a:ext cx="1171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0120" y="4937040"/>
            <a:ext cx="9460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16200" y="5432400"/>
            <a:ext cx="1498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рганизацион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16080" y="4741920"/>
            <a:ext cx="11224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72120" y="6350040"/>
            <a:ext cx="982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15880" y="3765600"/>
            <a:ext cx="9716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вес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17680" y="2773440"/>
            <a:ext cx="1085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651040"/>
            <a:ext cx="3200760" cy="2692800"/>
          </a:xfrm>
          <a:custGeom>
            <a:avLst/>
            <a:gdLst/>
            <a:ahLst/>
            <a:rect l="0" t="0" r="r" b="b"/>
            <a:pathLst>
              <a:path w="8891" h="7480">
                <a:moveTo>
                  <a:pt x="423" y="1662"/>
                </a:moveTo>
                <a:lnTo>
                  <a:pt x="2116" y="207"/>
                </a:lnTo>
                <a:lnTo>
                  <a:pt x="4233" y="0"/>
                </a:lnTo>
                <a:lnTo>
                  <a:pt x="6351" y="207"/>
                </a:lnTo>
                <a:lnTo>
                  <a:pt x="8256" y="1662"/>
                </a:lnTo>
                <a:lnTo>
                  <a:pt x="8891" y="2911"/>
                </a:lnTo>
                <a:lnTo>
                  <a:pt x="8256" y="4781"/>
                </a:lnTo>
                <a:lnTo>
                  <a:pt x="6351" y="6232"/>
                </a:lnTo>
                <a:lnTo>
                  <a:pt x="4446" y="7480"/>
                </a:lnTo>
                <a:lnTo>
                  <a:pt x="2540" y="6232"/>
                </a:lnTo>
                <a:lnTo>
                  <a:pt x="846" y="4569"/>
                </a:lnTo>
                <a:lnTo>
                  <a:pt x="0" y="2911"/>
                </a:lnTo>
                <a:lnTo>
                  <a:pt x="423" y="166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4880" y="3527280"/>
            <a:ext cx="13287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 Cyr"/>
                <a:ea typeface="Times New Roman Cyr"/>
              </a:rPr>
              <a:t>Продукты и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30880" y="5708520"/>
            <a:ext cx="1176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68320" y="2124000"/>
            <a:ext cx="16416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кспертные заклю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03720" y="2502000"/>
            <a:ext cx="598680" cy="486000"/>
          </a:xfrm>
          <a:custGeom>
            <a:avLst/>
            <a:gdLst/>
            <a:ahLst/>
            <a:rect l="0" t="0" r="r" b="b"/>
            <a:pathLst>
              <a:path w="1663" h="1350">
                <a:moveTo>
                  <a:pt x="13" y="0"/>
                </a:moveTo>
                <a:lnTo>
                  <a:pt x="1663" y="1081"/>
                </a:lnTo>
                <a:lnTo>
                  <a:pt x="1650" y="1350"/>
                </a:lnTo>
                <a:lnTo>
                  <a:pt x="0" y="268"/>
                </a:lnTo>
                <a:lnTo>
                  <a:pt x="13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01920" y="2417760"/>
            <a:ext cx="987840" cy="581400"/>
          </a:xfrm>
          <a:custGeom>
            <a:avLst/>
            <a:gdLst/>
            <a:ahLst/>
            <a:rect l="0" t="0" r="r" b="b"/>
            <a:pathLst>
              <a:path w="2744" h="1615">
                <a:moveTo>
                  <a:pt x="0" y="220"/>
                </a:moveTo>
                <a:lnTo>
                  <a:pt x="697" y="0"/>
                </a:lnTo>
                <a:lnTo>
                  <a:pt x="2255" y="975"/>
                </a:lnTo>
                <a:lnTo>
                  <a:pt x="2744" y="741"/>
                </a:lnTo>
                <a:lnTo>
                  <a:pt x="2683" y="1540"/>
                </a:lnTo>
                <a:lnTo>
                  <a:pt x="1063" y="1615"/>
                </a:lnTo>
                <a:lnTo>
                  <a:pt x="1650" y="1302"/>
                </a:lnTo>
                <a:lnTo>
                  <a:pt x="0" y="22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7840" y="2955960"/>
            <a:ext cx="589320" cy="171720"/>
          </a:xfrm>
          <a:custGeom>
            <a:avLst/>
            <a:gdLst/>
            <a:ahLst/>
            <a:rect l="0" t="0" r="r" b="b"/>
            <a:pathLst>
              <a:path w="1637" h="477">
                <a:moveTo>
                  <a:pt x="17" y="105"/>
                </a:moveTo>
                <a:lnTo>
                  <a:pt x="1637" y="0"/>
                </a:lnTo>
                <a:lnTo>
                  <a:pt x="1619" y="371"/>
                </a:lnTo>
                <a:lnTo>
                  <a:pt x="0" y="477"/>
                </a:lnTo>
                <a:lnTo>
                  <a:pt x="17" y="105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9720" y="2300400"/>
            <a:ext cx="543240" cy="570240"/>
          </a:xfrm>
          <a:custGeom>
            <a:avLst/>
            <a:gdLst/>
            <a:ahLst/>
            <a:rect l="0" t="0" r="r" b="b"/>
            <a:pathLst>
              <a:path w="1509" h="1584">
                <a:moveTo>
                  <a:pt x="1442" y="0"/>
                </a:moveTo>
                <a:lnTo>
                  <a:pt x="0" y="1332"/>
                </a:lnTo>
                <a:lnTo>
                  <a:pt x="61" y="1584"/>
                </a:lnTo>
                <a:lnTo>
                  <a:pt x="1509" y="268"/>
                </a:lnTo>
                <a:lnTo>
                  <a:pt x="1442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67440" y="2257560"/>
            <a:ext cx="941760" cy="665640"/>
          </a:xfrm>
          <a:custGeom>
            <a:avLst/>
            <a:gdLst/>
            <a:ahLst/>
            <a:rect l="0" t="0" r="r" b="b"/>
            <a:pathLst>
              <a:path w="2616" h="1849">
                <a:moveTo>
                  <a:pt x="2616" y="114"/>
                </a:moveTo>
                <a:lnTo>
                  <a:pt x="1901" y="0"/>
                </a:lnTo>
                <a:lnTo>
                  <a:pt x="537" y="1226"/>
                </a:lnTo>
                <a:lnTo>
                  <a:pt x="0" y="1063"/>
                </a:lnTo>
                <a:lnTo>
                  <a:pt x="207" y="1849"/>
                </a:lnTo>
                <a:lnTo>
                  <a:pt x="1839" y="1655"/>
                </a:lnTo>
                <a:lnTo>
                  <a:pt x="1173" y="1448"/>
                </a:lnTo>
                <a:lnTo>
                  <a:pt x="2616" y="114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41960" y="2841480"/>
            <a:ext cx="609840" cy="205200"/>
          </a:xfrm>
          <a:custGeom>
            <a:avLst/>
            <a:gdLst/>
            <a:ahLst/>
            <a:rect l="0" t="0" r="r" b="b"/>
            <a:pathLst>
              <a:path w="1694" h="570">
                <a:moveTo>
                  <a:pt x="1632" y="0"/>
                </a:moveTo>
                <a:lnTo>
                  <a:pt x="0" y="247"/>
                </a:lnTo>
                <a:lnTo>
                  <a:pt x="61" y="570"/>
                </a:lnTo>
                <a:lnTo>
                  <a:pt x="1694" y="344"/>
                </a:lnTo>
                <a:lnTo>
                  <a:pt x="1632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03680" y="4521240"/>
            <a:ext cx="851400" cy="503640"/>
          </a:xfrm>
          <a:custGeom>
            <a:avLst/>
            <a:gdLst/>
            <a:ahLst/>
            <a:rect l="0" t="0" r="r" b="b"/>
            <a:pathLst>
              <a:path w="2365" h="1399">
                <a:moveTo>
                  <a:pt x="17" y="1019"/>
                </a:moveTo>
                <a:lnTo>
                  <a:pt x="0" y="1399"/>
                </a:lnTo>
                <a:lnTo>
                  <a:pt x="2347" y="233"/>
                </a:lnTo>
                <a:lnTo>
                  <a:pt x="2365" y="0"/>
                </a:lnTo>
                <a:lnTo>
                  <a:pt x="17" y="10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9720" y="4227480"/>
            <a:ext cx="176400" cy="178200"/>
          </a:xfrm>
          <a:custGeom>
            <a:avLst/>
            <a:gdLst/>
            <a:ahLst/>
            <a:rect l="0" t="0" r="r" b="b"/>
            <a:pathLst>
              <a:path w="490" h="495">
                <a:moveTo>
                  <a:pt x="490" y="252"/>
                </a:moveTo>
                <a:lnTo>
                  <a:pt x="472" y="495"/>
                </a:lnTo>
                <a:lnTo>
                  <a:pt x="0" y="168"/>
                </a:lnTo>
                <a:lnTo>
                  <a:pt x="13" y="0"/>
                </a:lnTo>
                <a:lnTo>
                  <a:pt x="490" y="252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36920" y="4264200"/>
            <a:ext cx="1284480" cy="640080"/>
          </a:xfrm>
          <a:custGeom>
            <a:avLst/>
            <a:gdLst/>
            <a:ahLst/>
            <a:rect l="0" t="0" r="r" b="b"/>
            <a:pathLst>
              <a:path w="3568" h="1778">
                <a:moveTo>
                  <a:pt x="0" y="1041"/>
                </a:moveTo>
                <a:lnTo>
                  <a:pt x="2426" y="251"/>
                </a:lnTo>
                <a:lnTo>
                  <a:pt x="1954" y="0"/>
                </a:lnTo>
                <a:lnTo>
                  <a:pt x="3524" y="163"/>
                </a:lnTo>
                <a:lnTo>
                  <a:pt x="3568" y="1081"/>
                </a:lnTo>
                <a:lnTo>
                  <a:pt x="3092" y="740"/>
                </a:lnTo>
                <a:lnTo>
                  <a:pt x="745" y="1778"/>
                </a:lnTo>
                <a:lnTo>
                  <a:pt x="0" y="104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29000" y="4637160"/>
            <a:ext cx="281520" cy="405000"/>
          </a:xfrm>
          <a:custGeom>
            <a:avLst/>
            <a:gdLst/>
            <a:ahLst/>
            <a:rect l="0" t="0" r="r" b="b"/>
            <a:pathLst>
              <a:path w="782" h="1125">
                <a:moveTo>
                  <a:pt x="35" y="0"/>
                </a:moveTo>
                <a:lnTo>
                  <a:pt x="782" y="741"/>
                </a:lnTo>
                <a:lnTo>
                  <a:pt x="747" y="1125"/>
                </a:lnTo>
                <a:lnTo>
                  <a:pt x="0" y="343"/>
                </a:lnTo>
                <a:lnTo>
                  <a:pt x="35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4360" y="4506840"/>
            <a:ext cx="176400" cy="214560"/>
          </a:xfrm>
          <a:custGeom>
            <a:avLst/>
            <a:gdLst/>
            <a:ahLst/>
            <a:rect l="0" t="0" r="r" b="b"/>
            <a:pathLst>
              <a:path w="490" h="596">
                <a:moveTo>
                  <a:pt x="13" y="0"/>
                </a:moveTo>
                <a:lnTo>
                  <a:pt x="0" y="238"/>
                </a:lnTo>
                <a:lnTo>
                  <a:pt x="477" y="596"/>
                </a:lnTo>
                <a:lnTo>
                  <a:pt x="490" y="344"/>
                </a:lnTo>
                <a:lnTo>
                  <a:pt x="13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16600" y="4489560"/>
            <a:ext cx="857520" cy="671760"/>
          </a:xfrm>
          <a:custGeom>
            <a:avLst/>
            <a:gdLst/>
            <a:ahLst/>
            <a:rect l="0" t="0" r="r" b="b"/>
            <a:pathLst>
              <a:path w="2382" h="1866">
                <a:moveTo>
                  <a:pt x="2333" y="1350"/>
                </a:moveTo>
                <a:lnTo>
                  <a:pt x="2382" y="1866"/>
                </a:lnTo>
                <a:lnTo>
                  <a:pt x="30" y="313"/>
                </a:lnTo>
                <a:lnTo>
                  <a:pt x="0" y="0"/>
                </a:lnTo>
                <a:lnTo>
                  <a:pt x="2333" y="135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43760" y="4172040"/>
            <a:ext cx="165600" cy="230400"/>
          </a:xfrm>
          <a:custGeom>
            <a:avLst/>
            <a:gdLst/>
            <a:ahLst/>
            <a:rect l="0" t="0" r="r" b="b"/>
            <a:pathLst>
              <a:path w="460" h="640">
                <a:moveTo>
                  <a:pt x="0" y="344"/>
                </a:moveTo>
                <a:lnTo>
                  <a:pt x="30" y="640"/>
                </a:lnTo>
                <a:lnTo>
                  <a:pt x="460" y="224"/>
                </a:lnTo>
                <a:lnTo>
                  <a:pt x="447" y="0"/>
                </a:lnTo>
                <a:lnTo>
                  <a:pt x="0" y="344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1080" y="4173480"/>
            <a:ext cx="1244880" cy="808560"/>
          </a:xfrm>
          <a:custGeom>
            <a:avLst/>
            <a:gdLst/>
            <a:ahLst/>
            <a:rect l="0" t="0" r="r" b="b"/>
            <a:pathLst>
              <a:path w="3458" h="2246">
                <a:moveTo>
                  <a:pt x="3458" y="1288"/>
                </a:moveTo>
                <a:lnTo>
                  <a:pt x="1062" y="339"/>
                </a:lnTo>
                <a:lnTo>
                  <a:pt x="1508" y="0"/>
                </a:lnTo>
                <a:lnTo>
                  <a:pt x="0" y="220"/>
                </a:lnTo>
                <a:lnTo>
                  <a:pt x="13" y="1407"/>
                </a:lnTo>
                <a:lnTo>
                  <a:pt x="458" y="962"/>
                </a:lnTo>
                <a:lnTo>
                  <a:pt x="2792" y="2246"/>
                </a:lnTo>
                <a:lnTo>
                  <a:pt x="3458" y="128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6480" y="4591080"/>
            <a:ext cx="257400" cy="614880"/>
          </a:xfrm>
          <a:custGeom>
            <a:avLst/>
            <a:gdLst/>
            <a:ahLst/>
            <a:rect l="0" t="0" r="r" b="b"/>
            <a:pathLst>
              <a:path w="715" h="1708">
                <a:moveTo>
                  <a:pt x="666" y="0"/>
                </a:moveTo>
                <a:lnTo>
                  <a:pt x="0" y="1129"/>
                </a:lnTo>
                <a:lnTo>
                  <a:pt x="48" y="1708"/>
                </a:lnTo>
                <a:lnTo>
                  <a:pt x="715" y="525"/>
                </a:lnTo>
                <a:lnTo>
                  <a:pt x="666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56400" y="4524480"/>
            <a:ext cx="171720" cy="278280"/>
          </a:xfrm>
          <a:custGeom>
            <a:avLst/>
            <a:gdLst/>
            <a:ahLst/>
            <a:rect l="0" t="0" r="r" b="b"/>
            <a:pathLst>
              <a:path w="477" h="773">
                <a:moveTo>
                  <a:pt x="446" y="0"/>
                </a:moveTo>
                <a:lnTo>
                  <a:pt x="477" y="296"/>
                </a:lnTo>
                <a:lnTo>
                  <a:pt x="48" y="773"/>
                </a:lnTo>
                <a:lnTo>
                  <a:pt x="0" y="446"/>
                </a:lnTo>
                <a:lnTo>
                  <a:pt x="446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3880" y="3548160"/>
            <a:ext cx="46440" cy="197280"/>
          </a:xfrm>
          <a:custGeom>
            <a:avLst/>
            <a:gdLst/>
            <a:ahLst/>
            <a:rect l="0" t="0" r="r" b="b"/>
            <a:pathLst>
              <a:path w="129" h="548">
                <a:moveTo>
                  <a:pt x="116" y="0"/>
                </a:moveTo>
                <a:lnTo>
                  <a:pt x="0" y="283"/>
                </a:lnTo>
                <a:lnTo>
                  <a:pt x="17" y="548"/>
                </a:lnTo>
                <a:lnTo>
                  <a:pt x="129" y="212"/>
                </a:lnTo>
                <a:lnTo>
                  <a:pt x="116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86360" y="3554280"/>
            <a:ext cx="1148040" cy="470160"/>
          </a:xfrm>
          <a:custGeom>
            <a:avLst/>
            <a:gdLst/>
            <a:ahLst/>
            <a:rect l="0" t="0" r="r" b="b"/>
            <a:pathLst>
              <a:path w="3189" h="1306">
                <a:moveTo>
                  <a:pt x="1747" y="0"/>
                </a:moveTo>
                <a:lnTo>
                  <a:pt x="0" y="759"/>
                </a:lnTo>
                <a:lnTo>
                  <a:pt x="1142" y="1306"/>
                </a:lnTo>
                <a:lnTo>
                  <a:pt x="1252" y="1024"/>
                </a:lnTo>
                <a:lnTo>
                  <a:pt x="3061" y="891"/>
                </a:lnTo>
                <a:lnTo>
                  <a:pt x="3189" y="163"/>
                </a:lnTo>
                <a:lnTo>
                  <a:pt x="1632" y="282"/>
                </a:lnTo>
                <a:lnTo>
                  <a:pt x="1747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86360" y="3794040"/>
            <a:ext cx="417960" cy="346320"/>
          </a:xfrm>
          <a:custGeom>
            <a:avLst/>
            <a:gdLst/>
            <a:ahLst/>
            <a:rect l="0" t="0" r="r" b="b"/>
            <a:pathLst>
              <a:path w="1161" h="962">
                <a:moveTo>
                  <a:pt x="0" y="0"/>
                </a:moveTo>
                <a:lnTo>
                  <a:pt x="1144" y="636"/>
                </a:lnTo>
                <a:lnTo>
                  <a:pt x="1161" y="962"/>
                </a:lnTo>
                <a:lnTo>
                  <a:pt x="17" y="304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7480" y="3941640"/>
            <a:ext cx="51120" cy="197280"/>
          </a:xfrm>
          <a:custGeom>
            <a:avLst/>
            <a:gdLst/>
            <a:ahLst/>
            <a:rect l="0" t="0" r="r" b="b"/>
            <a:pathLst>
              <a:path w="142" h="548">
                <a:moveTo>
                  <a:pt x="0" y="296"/>
                </a:moveTo>
                <a:lnTo>
                  <a:pt x="111" y="0"/>
                </a:lnTo>
                <a:lnTo>
                  <a:pt x="142" y="283"/>
                </a:lnTo>
                <a:lnTo>
                  <a:pt x="17" y="548"/>
                </a:lnTo>
                <a:lnTo>
                  <a:pt x="0" y="296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37440" y="3857760"/>
            <a:ext cx="662400" cy="182880"/>
          </a:xfrm>
          <a:custGeom>
            <a:avLst/>
            <a:gdLst/>
            <a:ahLst/>
            <a:rect l="0" t="0" r="r" b="b"/>
            <a:pathLst>
              <a:path w="1840" h="508">
                <a:moveTo>
                  <a:pt x="0" y="158"/>
                </a:moveTo>
                <a:lnTo>
                  <a:pt x="30" y="508"/>
                </a:lnTo>
                <a:lnTo>
                  <a:pt x="1840" y="340"/>
                </a:lnTo>
                <a:lnTo>
                  <a:pt x="1809" y="0"/>
                </a:lnTo>
                <a:lnTo>
                  <a:pt x="0" y="15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88320" y="3614760"/>
            <a:ext cx="57600" cy="357480"/>
          </a:xfrm>
          <a:custGeom>
            <a:avLst/>
            <a:gdLst/>
            <a:ahLst/>
            <a:rect l="0" t="0" r="r" b="b"/>
            <a:pathLst>
              <a:path w="160" h="993">
                <a:moveTo>
                  <a:pt x="129" y="0"/>
                </a:moveTo>
                <a:lnTo>
                  <a:pt x="0" y="724"/>
                </a:lnTo>
                <a:lnTo>
                  <a:pt x="17" y="993"/>
                </a:lnTo>
                <a:lnTo>
                  <a:pt x="160" y="264"/>
                </a:lnTo>
                <a:lnTo>
                  <a:pt x="129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5400" y="3645000"/>
            <a:ext cx="52920" cy="178200"/>
          </a:xfrm>
          <a:custGeom>
            <a:avLst/>
            <a:gdLst/>
            <a:ahLst/>
            <a:rect l="0" t="0" r="r" b="b"/>
            <a:pathLst>
              <a:path w="147" h="495">
                <a:moveTo>
                  <a:pt x="0" y="0"/>
                </a:moveTo>
                <a:lnTo>
                  <a:pt x="147" y="252"/>
                </a:lnTo>
                <a:lnTo>
                  <a:pt x="147" y="495"/>
                </a:lnTo>
                <a:lnTo>
                  <a:pt x="0" y="195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75080" y="3660840"/>
            <a:ext cx="1113120" cy="408240"/>
          </a:xfrm>
          <a:custGeom>
            <a:avLst/>
            <a:gdLst/>
            <a:ahLst/>
            <a:rect l="0" t="0" r="r" b="b"/>
            <a:pathLst>
              <a:path w="3092" h="1134">
                <a:moveTo>
                  <a:pt x="1362" y="0"/>
                </a:moveTo>
                <a:lnTo>
                  <a:pt x="3092" y="578"/>
                </a:lnTo>
                <a:lnTo>
                  <a:pt x="2047" y="1134"/>
                </a:lnTo>
                <a:lnTo>
                  <a:pt x="1906" y="900"/>
                </a:lnTo>
                <a:lnTo>
                  <a:pt x="176" y="882"/>
                </a:lnTo>
                <a:lnTo>
                  <a:pt x="0" y="238"/>
                </a:lnTo>
                <a:lnTo>
                  <a:pt x="1508" y="251"/>
                </a:lnTo>
                <a:lnTo>
                  <a:pt x="1362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11640" y="3865680"/>
            <a:ext cx="376560" cy="298800"/>
          </a:xfrm>
          <a:custGeom>
            <a:avLst/>
            <a:gdLst/>
            <a:ahLst/>
            <a:rect l="0" t="0" r="r" b="b"/>
            <a:pathLst>
              <a:path w="1046" h="830">
                <a:moveTo>
                  <a:pt x="1046" y="0"/>
                </a:moveTo>
                <a:lnTo>
                  <a:pt x="0" y="561"/>
                </a:lnTo>
                <a:lnTo>
                  <a:pt x="0" y="830"/>
                </a:lnTo>
                <a:lnTo>
                  <a:pt x="1046" y="251"/>
                </a:lnTo>
                <a:lnTo>
                  <a:pt x="1046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60880" y="3986280"/>
            <a:ext cx="51120" cy="176400"/>
          </a:xfrm>
          <a:custGeom>
            <a:avLst/>
            <a:gdLst/>
            <a:ahLst/>
            <a:rect l="0" t="0" r="r" b="b"/>
            <a:pathLst>
              <a:path w="142" h="490">
                <a:moveTo>
                  <a:pt x="142" y="252"/>
                </a:moveTo>
                <a:lnTo>
                  <a:pt x="0" y="0"/>
                </a:lnTo>
                <a:lnTo>
                  <a:pt x="0" y="252"/>
                </a:lnTo>
                <a:lnTo>
                  <a:pt x="142" y="490"/>
                </a:lnTo>
                <a:lnTo>
                  <a:pt x="142" y="252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31960" y="3979800"/>
            <a:ext cx="628920" cy="95760"/>
          </a:xfrm>
          <a:custGeom>
            <a:avLst/>
            <a:gdLst/>
            <a:ahLst/>
            <a:rect l="0" t="0" r="r" b="b"/>
            <a:pathLst>
              <a:path w="1747" h="266">
                <a:moveTo>
                  <a:pt x="1747" y="17"/>
                </a:moveTo>
                <a:lnTo>
                  <a:pt x="1747" y="266"/>
                </a:lnTo>
                <a:lnTo>
                  <a:pt x="0" y="248"/>
                </a:lnTo>
                <a:lnTo>
                  <a:pt x="17" y="0"/>
                </a:lnTo>
                <a:lnTo>
                  <a:pt x="1747" y="17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640" bIns="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5080" y="3738600"/>
            <a:ext cx="63720" cy="319320"/>
          </a:xfrm>
          <a:custGeom>
            <a:avLst/>
            <a:gdLst/>
            <a:ahLst/>
            <a:rect l="0" t="0" r="r" b="b"/>
            <a:pathLst>
              <a:path w="177" h="887">
                <a:moveTo>
                  <a:pt x="0" y="0"/>
                </a:moveTo>
                <a:lnTo>
                  <a:pt x="177" y="649"/>
                </a:lnTo>
                <a:lnTo>
                  <a:pt x="177" y="887"/>
                </a:lnTo>
                <a:lnTo>
                  <a:pt x="0" y="233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6880" y="5362560"/>
            <a:ext cx="103680" cy="149760"/>
          </a:xfrm>
          <a:custGeom>
            <a:avLst/>
            <a:gdLst/>
            <a:ahLst/>
            <a:rect l="0" t="0" r="r" b="b"/>
            <a:pathLst>
              <a:path w="288" h="416">
                <a:moveTo>
                  <a:pt x="0" y="0"/>
                </a:moveTo>
                <a:lnTo>
                  <a:pt x="288" y="0"/>
                </a:lnTo>
                <a:lnTo>
                  <a:pt x="288" y="416"/>
                </a:lnTo>
                <a:lnTo>
                  <a:pt x="0" y="416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4800" y="5362560"/>
            <a:ext cx="108360" cy="138600"/>
          </a:xfrm>
          <a:custGeom>
            <a:avLst/>
            <a:gdLst/>
            <a:ahLst/>
            <a:rect l="0" t="0" r="r" b="b"/>
            <a:pathLst>
              <a:path w="301" h="385">
                <a:moveTo>
                  <a:pt x="0" y="0"/>
                </a:moveTo>
                <a:lnTo>
                  <a:pt x="288" y="0"/>
                </a:lnTo>
                <a:lnTo>
                  <a:pt x="301" y="385"/>
                </a:lnTo>
                <a:lnTo>
                  <a:pt x="0" y="385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90920" y="5037120"/>
            <a:ext cx="719640" cy="1006920"/>
          </a:xfrm>
          <a:custGeom>
            <a:avLst/>
            <a:gdLst/>
            <a:ahLst/>
            <a:rect l="0" t="0" r="r" b="b"/>
            <a:pathLst>
              <a:path w="1999" h="2797">
                <a:moveTo>
                  <a:pt x="984" y="0"/>
                </a:moveTo>
                <a:lnTo>
                  <a:pt x="0" y="887"/>
                </a:lnTo>
                <a:lnTo>
                  <a:pt x="282" y="887"/>
                </a:lnTo>
                <a:lnTo>
                  <a:pt x="92" y="2797"/>
                </a:lnTo>
                <a:lnTo>
                  <a:pt x="1902" y="2797"/>
                </a:lnTo>
                <a:lnTo>
                  <a:pt x="1712" y="887"/>
                </a:lnTo>
                <a:lnTo>
                  <a:pt x="1999" y="887"/>
                </a:lnTo>
                <a:lnTo>
                  <a:pt x="984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0" y="6054840"/>
            <a:ext cx="651240" cy="194040"/>
          </a:xfrm>
          <a:custGeom>
            <a:avLst/>
            <a:gdLst/>
            <a:ahLst/>
            <a:rect l="0" t="0" r="r" b="b"/>
            <a:pathLst>
              <a:path w="1809" h="539">
                <a:moveTo>
                  <a:pt x="0" y="0"/>
                </a:moveTo>
                <a:lnTo>
                  <a:pt x="1809" y="0"/>
                </a:lnTo>
                <a:lnTo>
                  <a:pt x="1809" y="539"/>
                </a:lnTo>
                <a:lnTo>
                  <a:pt x="0" y="539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10360" y="5013360"/>
            <a:ext cx="708480" cy="908280"/>
          </a:xfrm>
          <a:custGeom>
            <a:avLst/>
            <a:gdLst/>
            <a:ahLst/>
            <a:rect l="0" t="0" r="r" b="b"/>
            <a:pathLst>
              <a:path w="1968" h="2523">
                <a:moveTo>
                  <a:pt x="1968" y="1980"/>
                </a:moveTo>
                <a:lnTo>
                  <a:pt x="1871" y="2523"/>
                </a:lnTo>
                <a:lnTo>
                  <a:pt x="0" y="317"/>
                </a:lnTo>
                <a:lnTo>
                  <a:pt x="48" y="0"/>
                </a:lnTo>
                <a:lnTo>
                  <a:pt x="1968" y="198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78560" y="4826160"/>
            <a:ext cx="205200" cy="182880"/>
          </a:xfrm>
          <a:custGeom>
            <a:avLst/>
            <a:gdLst/>
            <a:ahLst/>
            <a:rect l="0" t="0" r="r" b="b"/>
            <a:pathLst>
              <a:path w="570" h="508">
                <a:moveTo>
                  <a:pt x="61" y="220"/>
                </a:moveTo>
                <a:lnTo>
                  <a:pt x="0" y="508"/>
                </a:lnTo>
                <a:lnTo>
                  <a:pt x="539" y="211"/>
                </a:lnTo>
                <a:lnTo>
                  <a:pt x="570" y="0"/>
                </a:lnTo>
                <a:lnTo>
                  <a:pt x="61" y="22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32520" y="4789440"/>
            <a:ext cx="1205280" cy="938520"/>
          </a:xfrm>
          <a:custGeom>
            <a:avLst/>
            <a:gdLst/>
            <a:ahLst/>
            <a:rect l="0" t="0" r="r" b="b"/>
            <a:pathLst>
              <a:path w="3348" h="2607">
                <a:moveTo>
                  <a:pt x="3348" y="1835"/>
                </a:moveTo>
                <a:lnTo>
                  <a:pt x="1301" y="352"/>
                </a:lnTo>
                <a:lnTo>
                  <a:pt x="1808" y="132"/>
                </a:lnTo>
                <a:lnTo>
                  <a:pt x="304" y="0"/>
                </a:lnTo>
                <a:lnTo>
                  <a:pt x="0" y="1155"/>
                </a:lnTo>
                <a:lnTo>
                  <a:pt x="542" y="829"/>
                </a:lnTo>
                <a:lnTo>
                  <a:pt x="2461" y="2607"/>
                </a:lnTo>
                <a:lnTo>
                  <a:pt x="3348" y="1835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64120" y="5445000"/>
            <a:ext cx="354240" cy="495720"/>
          </a:xfrm>
          <a:custGeom>
            <a:avLst/>
            <a:gdLst/>
            <a:ahLst/>
            <a:rect l="0" t="0" r="r" b="b"/>
            <a:pathLst>
              <a:path w="984" h="1377">
                <a:moveTo>
                  <a:pt x="984" y="0"/>
                </a:moveTo>
                <a:lnTo>
                  <a:pt x="97" y="843"/>
                </a:lnTo>
                <a:lnTo>
                  <a:pt x="0" y="1377"/>
                </a:lnTo>
                <a:lnTo>
                  <a:pt x="922" y="486"/>
                </a:lnTo>
                <a:lnTo>
                  <a:pt x="984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4880" y="5095800"/>
            <a:ext cx="213120" cy="230400"/>
          </a:xfrm>
          <a:custGeom>
            <a:avLst/>
            <a:gdLst/>
            <a:ahLst/>
            <a:rect l="0" t="0" r="r" b="b"/>
            <a:pathLst>
              <a:path w="592" h="640">
                <a:moveTo>
                  <a:pt x="592" y="0"/>
                </a:moveTo>
                <a:lnTo>
                  <a:pt x="544" y="286"/>
                </a:lnTo>
                <a:lnTo>
                  <a:pt x="0" y="640"/>
                </a:lnTo>
                <a:lnTo>
                  <a:pt x="48" y="331"/>
                </a:lnTo>
                <a:lnTo>
                  <a:pt x="592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83360" y="3025800"/>
            <a:ext cx="690840" cy="357480"/>
          </a:xfrm>
          <a:custGeom>
            <a:avLst/>
            <a:gdLst/>
            <a:ahLst/>
            <a:rect l="0" t="0" r="r" b="b"/>
            <a:pathLst>
              <a:path w="1919" h="993">
                <a:moveTo>
                  <a:pt x="1919" y="0"/>
                </a:moveTo>
                <a:lnTo>
                  <a:pt x="48" y="728"/>
                </a:lnTo>
                <a:lnTo>
                  <a:pt x="0" y="993"/>
                </a:lnTo>
                <a:lnTo>
                  <a:pt x="1870" y="268"/>
                </a:lnTo>
                <a:lnTo>
                  <a:pt x="1919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8320" y="2892600"/>
            <a:ext cx="1055880" cy="545040"/>
          </a:xfrm>
          <a:custGeom>
            <a:avLst/>
            <a:gdLst/>
            <a:ahLst/>
            <a:rect l="0" t="0" r="r" b="b"/>
            <a:pathLst>
              <a:path w="2933" h="1514">
                <a:moveTo>
                  <a:pt x="2933" y="352"/>
                </a:moveTo>
                <a:lnTo>
                  <a:pt x="2316" y="0"/>
                </a:lnTo>
                <a:lnTo>
                  <a:pt x="555" y="653"/>
                </a:lnTo>
                <a:lnTo>
                  <a:pt x="127" y="326"/>
                </a:lnTo>
                <a:lnTo>
                  <a:pt x="0" y="1112"/>
                </a:lnTo>
                <a:lnTo>
                  <a:pt x="1584" y="1514"/>
                </a:lnTo>
                <a:lnTo>
                  <a:pt x="1062" y="1085"/>
                </a:lnTo>
                <a:lnTo>
                  <a:pt x="2933" y="352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00680" y="3298680"/>
            <a:ext cx="587880" cy="257400"/>
          </a:xfrm>
          <a:custGeom>
            <a:avLst/>
            <a:gdLst/>
            <a:ahLst/>
            <a:rect l="0" t="0" r="r" b="b"/>
            <a:pathLst>
              <a:path w="1633" h="715">
                <a:moveTo>
                  <a:pt x="1633" y="428"/>
                </a:moveTo>
                <a:lnTo>
                  <a:pt x="48" y="0"/>
                </a:lnTo>
                <a:lnTo>
                  <a:pt x="0" y="286"/>
                </a:lnTo>
                <a:lnTo>
                  <a:pt x="1589" y="715"/>
                </a:lnTo>
                <a:lnTo>
                  <a:pt x="1633" y="42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4600" y="4978440"/>
            <a:ext cx="810000" cy="682920"/>
          </a:xfrm>
          <a:custGeom>
            <a:avLst/>
            <a:gdLst/>
            <a:ahLst/>
            <a:rect l="0" t="0" r="r" b="b"/>
            <a:pathLst>
              <a:path w="2250" h="1897">
                <a:moveTo>
                  <a:pt x="0" y="1438"/>
                </a:moveTo>
                <a:lnTo>
                  <a:pt x="13" y="1897"/>
                </a:lnTo>
                <a:lnTo>
                  <a:pt x="2250" y="268"/>
                </a:lnTo>
                <a:lnTo>
                  <a:pt x="2237" y="0"/>
                </a:lnTo>
                <a:lnTo>
                  <a:pt x="0" y="143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4746600"/>
            <a:ext cx="182880" cy="181440"/>
          </a:xfrm>
          <a:custGeom>
            <a:avLst/>
            <a:gdLst/>
            <a:ahLst/>
            <a:rect l="0" t="0" r="r" b="b"/>
            <a:pathLst>
              <a:path w="508" h="504">
                <a:moveTo>
                  <a:pt x="508" y="252"/>
                </a:moveTo>
                <a:lnTo>
                  <a:pt x="508" y="504"/>
                </a:lnTo>
                <a:lnTo>
                  <a:pt x="17" y="195"/>
                </a:lnTo>
                <a:lnTo>
                  <a:pt x="0" y="0"/>
                </a:lnTo>
                <a:lnTo>
                  <a:pt x="508" y="252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17960" y="4772160"/>
            <a:ext cx="1284480" cy="711720"/>
          </a:xfrm>
          <a:custGeom>
            <a:avLst/>
            <a:gdLst/>
            <a:ahLst/>
            <a:rect l="0" t="0" r="r" b="b"/>
            <a:pathLst>
              <a:path w="3568" h="1977">
                <a:moveTo>
                  <a:pt x="0" y="1266"/>
                </a:moveTo>
                <a:lnTo>
                  <a:pt x="2346" y="229"/>
                </a:lnTo>
                <a:lnTo>
                  <a:pt x="1857" y="0"/>
                </a:lnTo>
                <a:lnTo>
                  <a:pt x="3440" y="44"/>
                </a:lnTo>
                <a:lnTo>
                  <a:pt x="3568" y="1006"/>
                </a:lnTo>
                <a:lnTo>
                  <a:pt x="3061" y="697"/>
                </a:lnTo>
                <a:lnTo>
                  <a:pt x="824" y="1977"/>
                </a:lnTo>
                <a:lnTo>
                  <a:pt x="0" y="1266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5237280"/>
            <a:ext cx="297360" cy="419400"/>
          </a:xfrm>
          <a:custGeom>
            <a:avLst/>
            <a:gdLst/>
            <a:ahLst/>
            <a:rect l="0" t="0" r="r" b="b"/>
            <a:pathLst>
              <a:path w="826" h="1165">
                <a:moveTo>
                  <a:pt x="0" y="0"/>
                </a:moveTo>
                <a:lnTo>
                  <a:pt x="813" y="750"/>
                </a:lnTo>
                <a:lnTo>
                  <a:pt x="826" y="1165"/>
                </a:lnTo>
                <a:lnTo>
                  <a:pt x="0" y="379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9560" y="5027760"/>
            <a:ext cx="182880" cy="224280"/>
          </a:xfrm>
          <a:custGeom>
            <a:avLst/>
            <a:gdLst/>
            <a:ahLst/>
            <a:rect l="0" t="0" r="r" b="b"/>
            <a:pathLst>
              <a:path w="508" h="623">
                <a:moveTo>
                  <a:pt x="0" y="0"/>
                </a:moveTo>
                <a:lnTo>
                  <a:pt x="0" y="269"/>
                </a:lnTo>
                <a:lnTo>
                  <a:pt x="508" y="623"/>
                </a:lnTo>
                <a:lnTo>
                  <a:pt x="508" y="344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49600" y="3090960"/>
            <a:ext cx="668520" cy="378360"/>
          </a:xfrm>
          <a:custGeom>
            <a:avLst/>
            <a:gdLst/>
            <a:ahLst/>
            <a:rect l="0" t="0" r="r" b="b"/>
            <a:pathLst>
              <a:path w="1857" h="1051">
                <a:moveTo>
                  <a:pt x="0" y="0"/>
                </a:moveTo>
                <a:lnTo>
                  <a:pt x="1822" y="785"/>
                </a:lnTo>
                <a:lnTo>
                  <a:pt x="1857" y="1051"/>
                </a:lnTo>
                <a:lnTo>
                  <a:pt x="30" y="269"/>
                </a:lnTo>
                <a:lnTo>
                  <a:pt x="0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58960" y="2971800"/>
            <a:ext cx="1038600" cy="554400"/>
          </a:xfrm>
          <a:custGeom>
            <a:avLst/>
            <a:gdLst/>
            <a:ahLst/>
            <a:rect l="0" t="0" r="r" b="b"/>
            <a:pathLst>
              <a:path w="2885" h="1540">
                <a:moveTo>
                  <a:pt x="0" y="339"/>
                </a:moveTo>
                <a:lnTo>
                  <a:pt x="617" y="0"/>
                </a:lnTo>
                <a:lnTo>
                  <a:pt x="2347" y="697"/>
                </a:lnTo>
                <a:lnTo>
                  <a:pt x="2775" y="389"/>
                </a:lnTo>
                <a:lnTo>
                  <a:pt x="2885" y="1188"/>
                </a:lnTo>
                <a:lnTo>
                  <a:pt x="1301" y="1540"/>
                </a:lnTo>
                <a:lnTo>
                  <a:pt x="1822" y="1129"/>
                </a:lnTo>
                <a:lnTo>
                  <a:pt x="0" y="33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17960" y="3387600"/>
            <a:ext cx="582840" cy="249480"/>
          </a:xfrm>
          <a:custGeom>
            <a:avLst/>
            <a:gdLst/>
            <a:ahLst/>
            <a:rect l="0" t="0" r="r" b="b"/>
            <a:pathLst>
              <a:path w="1619" h="693">
                <a:moveTo>
                  <a:pt x="0" y="393"/>
                </a:moveTo>
                <a:lnTo>
                  <a:pt x="1584" y="0"/>
                </a:lnTo>
                <a:lnTo>
                  <a:pt x="1619" y="277"/>
                </a:lnTo>
                <a:lnTo>
                  <a:pt x="30" y="693"/>
                </a:lnTo>
                <a:lnTo>
                  <a:pt x="0" y="393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1962000"/>
            <a:ext cx="7620120" cy="4038480"/>
          </a:xfrm>
          <a:prstGeom prst="rect">
            <a:avLst/>
          </a:prstGeom>
          <a:solidFill>
            <a:srgbClr val="fafd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32040" y="115740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цесс подготовки к консультированию содержит четыре обязательных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88840" y="2095560"/>
            <a:ext cx="341640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й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вои навы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вой опы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вои продукт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190440">
              <a:lnSpc>
                <a:spcPct val="90000"/>
              </a:lnSpc>
              <a:spcBef>
                <a:spcPts val="96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й свой рыно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и клиен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труктуру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феру деяте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6520" y="2171520"/>
            <a:ext cx="3919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й своих клиен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тояние их бизнеса и его положение в отра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190440">
              <a:lnSpc>
                <a:spcPct val="90000"/>
              </a:lnSpc>
              <a:spcBef>
                <a:spcPts val="96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190440">
              <a:lnSpc>
                <a:spcPct val="90000"/>
              </a:lnSpc>
              <a:spcBef>
                <a:spcPts val="96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й характер конкурен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дукты и услуги, успешно реализуемые конкурент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62120" y="1962000"/>
            <a:ext cx="7619760" cy="4038840"/>
            <a:chOff x="762120" y="1962000"/>
            <a:chExt cx="7619760" cy="4038840"/>
          </a:xfrm>
        </p:grpSpPr>
        <p:sp>
          <p:nvSpPr>
            <p:cNvPr id="226" name=""/>
            <p:cNvSpPr/>
            <p:nvPr/>
          </p:nvSpPr>
          <p:spPr>
            <a:xfrm>
              <a:off x="762120" y="3867120"/>
              <a:ext cx="761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19720" y="1962000"/>
              <a:ext cx="0" cy="403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77760" y="1003320"/>
            <a:ext cx="7848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 отсутствии конкретно обозначенного продукта консультант не может предложить что-либо ценное клиен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038480" y="1695600"/>
            <a:ext cx="45720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95000"/>
              </a:lnSpc>
              <a:spcBef>
                <a:spcPts val="24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то 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95000"/>
              </a:lnSpc>
              <a:spcBef>
                <a:spcPts val="24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то нам нужно прод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95000"/>
              </a:lnSpc>
              <a:spcBef>
                <a:spcPts val="24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у мы будем продав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95000"/>
              </a:lnSpc>
              <a:spcBef>
                <a:spcPts val="24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 нам следует построить оплат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95000"/>
              </a:lnSpc>
              <a:spcBef>
                <a:spcPts val="24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то нужно н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95000"/>
              </a:lnSpc>
              <a:spcBef>
                <a:spcPts val="24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его хотят о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137040" y="1630440"/>
            <a:ext cx="581040" cy="4888080"/>
            <a:chOff x="3137040" y="1630440"/>
            <a:chExt cx="581040" cy="4888080"/>
          </a:xfrm>
        </p:grpSpPr>
        <p:grpSp>
          <p:nvGrpSpPr>
            <p:cNvPr id="232" name=""/>
            <p:cNvGrpSpPr/>
            <p:nvPr/>
          </p:nvGrpSpPr>
          <p:grpSpPr>
            <a:xfrm>
              <a:off x="3137040" y="2468520"/>
              <a:ext cx="581040" cy="696960"/>
              <a:chOff x="3137040" y="2468520"/>
              <a:chExt cx="581040" cy="696960"/>
            </a:xfrm>
          </p:grpSpPr>
          <p:sp>
            <p:nvSpPr>
              <p:cNvPr id="233" name=""/>
              <p:cNvSpPr/>
              <p:nvPr/>
            </p:nvSpPr>
            <p:spPr>
              <a:xfrm>
                <a:off x="3137040" y="2529000"/>
                <a:ext cx="581040" cy="577800"/>
              </a:xfrm>
              <a:prstGeom prst="roundRect">
                <a:avLst/>
              </a:prstGeom>
              <a:solidFill>
                <a:srgbClr val="f57b49"/>
              </a:solidFill>
              <a:ln w="38160">
                <a:solidFill>
                  <a:srgbClr val="919191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3211560" y="2468520"/>
                <a:ext cx="421200" cy="696960"/>
                <a:chOff x="3211560" y="2468520"/>
                <a:chExt cx="421200" cy="6969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211560" y="2468520"/>
                  <a:ext cx="421200" cy="522720"/>
                </a:xfrm>
                <a:custGeom>
                  <a:avLst/>
                  <a:gdLst/>
                  <a:ahLst/>
                  <a:rect l="0" t="0" r="r" b="b"/>
                  <a:pathLst>
                    <a:path w="1170" h="1452">
                      <a:moveTo>
                        <a:pt x="233" y="622"/>
                      </a:moveTo>
                      <a:lnTo>
                        <a:pt x="0" y="622"/>
                      </a:lnTo>
                      <a:lnTo>
                        <a:pt x="0" y="516"/>
                      </a:lnTo>
                      <a:lnTo>
                        <a:pt x="22" y="424"/>
                      </a:lnTo>
                      <a:lnTo>
                        <a:pt x="39" y="361"/>
                      </a:lnTo>
                      <a:lnTo>
                        <a:pt x="79" y="277"/>
                      </a:lnTo>
                      <a:lnTo>
                        <a:pt x="119" y="220"/>
                      </a:lnTo>
                      <a:lnTo>
                        <a:pt x="171" y="163"/>
                      </a:lnTo>
                      <a:lnTo>
                        <a:pt x="207" y="127"/>
                      </a:lnTo>
                      <a:lnTo>
                        <a:pt x="277" y="79"/>
                      </a:lnTo>
                      <a:lnTo>
                        <a:pt x="344" y="44"/>
                      </a:lnTo>
                      <a:lnTo>
                        <a:pt x="411" y="22"/>
                      </a:lnTo>
                      <a:lnTo>
                        <a:pt x="472" y="8"/>
                      </a:lnTo>
                      <a:lnTo>
                        <a:pt x="543" y="0"/>
                      </a:lnTo>
                      <a:lnTo>
                        <a:pt x="622" y="0"/>
                      </a:lnTo>
                      <a:lnTo>
                        <a:pt x="715" y="8"/>
                      </a:lnTo>
                      <a:lnTo>
                        <a:pt x="821" y="30"/>
                      </a:lnTo>
                      <a:lnTo>
                        <a:pt x="879" y="52"/>
                      </a:lnTo>
                      <a:lnTo>
                        <a:pt x="936" y="88"/>
                      </a:lnTo>
                      <a:lnTo>
                        <a:pt x="1007" y="136"/>
                      </a:lnTo>
                      <a:lnTo>
                        <a:pt x="1064" y="194"/>
                      </a:lnTo>
                      <a:lnTo>
                        <a:pt x="1108" y="268"/>
                      </a:lnTo>
                      <a:lnTo>
                        <a:pt x="1148" y="361"/>
                      </a:lnTo>
                      <a:lnTo>
                        <a:pt x="1170" y="481"/>
                      </a:lnTo>
                      <a:lnTo>
                        <a:pt x="1170" y="569"/>
                      </a:lnTo>
                      <a:lnTo>
                        <a:pt x="1152" y="658"/>
                      </a:lnTo>
                      <a:lnTo>
                        <a:pt x="1126" y="733"/>
                      </a:lnTo>
                      <a:lnTo>
                        <a:pt x="1086" y="785"/>
                      </a:lnTo>
                      <a:lnTo>
                        <a:pt x="1011" y="869"/>
                      </a:lnTo>
                      <a:lnTo>
                        <a:pt x="967" y="909"/>
                      </a:lnTo>
                      <a:lnTo>
                        <a:pt x="910" y="971"/>
                      </a:lnTo>
                      <a:lnTo>
                        <a:pt x="869" y="1010"/>
                      </a:lnTo>
                      <a:lnTo>
                        <a:pt x="799" y="1081"/>
                      </a:lnTo>
                      <a:lnTo>
                        <a:pt x="746" y="1157"/>
                      </a:lnTo>
                      <a:lnTo>
                        <a:pt x="710" y="1227"/>
                      </a:lnTo>
                      <a:lnTo>
                        <a:pt x="688" y="1298"/>
                      </a:lnTo>
                      <a:lnTo>
                        <a:pt x="680" y="1355"/>
                      </a:lnTo>
                      <a:lnTo>
                        <a:pt x="680" y="1452"/>
                      </a:lnTo>
                      <a:lnTo>
                        <a:pt x="450" y="1452"/>
                      </a:lnTo>
                      <a:lnTo>
                        <a:pt x="450" y="1391"/>
                      </a:lnTo>
                      <a:lnTo>
                        <a:pt x="455" y="1307"/>
                      </a:lnTo>
                      <a:lnTo>
                        <a:pt x="472" y="1219"/>
                      </a:lnTo>
                      <a:lnTo>
                        <a:pt x="486" y="1170"/>
                      </a:lnTo>
                      <a:lnTo>
                        <a:pt x="521" y="1100"/>
                      </a:lnTo>
                      <a:lnTo>
                        <a:pt x="552" y="1041"/>
                      </a:lnTo>
                      <a:lnTo>
                        <a:pt x="605" y="988"/>
                      </a:lnTo>
                      <a:lnTo>
                        <a:pt x="644" y="935"/>
                      </a:lnTo>
                      <a:lnTo>
                        <a:pt x="710" y="874"/>
                      </a:lnTo>
                      <a:lnTo>
                        <a:pt x="772" y="812"/>
                      </a:lnTo>
                      <a:lnTo>
                        <a:pt x="825" y="759"/>
                      </a:lnTo>
                      <a:lnTo>
                        <a:pt x="879" y="684"/>
                      </a:lnTo>
                      <a:lnTo>
                        <a:pt x="914" y="587"/>
                      </a:lnTo>
                      <a:lnTo>
                        <a:pt x="923" y="499"/>
                      </a:lnTo>
                      <a:lnTo>
                        <a:pt x="910" y="419"/>
                      </a:lnTo>
                      <a:lnTo>
                        <a:pt x="879" y="352"/>
                      </a:lnTo>
                      <a:lnTo>
                        <a:pt x="838" y="282"/>
                      </a:lnTo>
                      <a:lnTo>
                        <a:pt x="750" y="229"/>
                      </a:lnTo>
                      <a:lnTo>
                        <a:pt x="666" y="207"/>
                      </a:lnTo>
                      <a:lnTo>
                        <a:pt x="622" y="202"/>
                      </a:lnTo>
                      <a:lnTo>
                        <a:pt x="547" y="202"/>
                      </a:lnTo>
                      <a:lnTo>
                        <a:pt x="512" y="216"/>
                      </a:lnTo>
                      <a:lnTo>
                        <a:pt x="459" y="220"/>
                      </a:lnTo>
                      <a:lnTo>
                        <a:pt x="393" y="251"/>
                      </a:lnTo>
                      <a:lnTo>
                        <a:pt x="353" y="286"/>
                      </a:lnTo>
                      <a:lnTo>
                        <a:pt x="296" y="343"/>
                      </a:lnTo>
                      <a:lnTo>
                        <a:pt x="264" y="406"/>
                      </a:lnTo>
                      <a:lnTo>
                        <a:pt x="246" y="477"/>
                      </a:lnTo>
                      <a:lnTo>
                        <a:pt x="238" y="565"/>
                      </a:lnTo>
                      <a:lnTo>
                        <a:pt x="233" y="622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370320" y="3070080"/>
                  <a:ext cx="92160" cy="95400"/>
                </a:xfrm>
                <a:prstGeom prst="rect">
                  <a:avLst/>
                </a:pr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3137040" y="3306600"/>
              <a:ext cx="581040" cy="697320"/>
              <a:chOff x="3137040" y="3306600"/>
              <a:chExt cx="581040" cy="697320"/>
            </a:xfrm>
          </p:grpSpPr>
          <p:sp>
            <p:nvSpPr>
              <p:cNvPr id="238" name=""/>
              <p:cNvSpPr/>
              <p:nvPr/>
            </p:nvSpPr>
            <p:spPr>
              <a:xfrm>
                <a:off x="3137040" y="3367080"/>
                <a:ext cx="581040" cy="577800"/>
              </a:xfrm>
              <a:prstGeom prst="roundRect">
                <a:avLst/>
              </a:prstGeom>
              <a:solidFill>
                <a:srgbClr val="f57b49"/>
              </a:solidFill>
              <a:ln w="38160">
                <a:solidFill>
                  <a:srgbClr val="919191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3211560" y="3306600"/>
                <a:ext cx="421200" cy="697320"/>
                <a:chOff x="3211560" y="3306600"/>
                <a:chExt cx="421200" cy="6973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211560" y="3306600"/>
                  <a:ext cx="421200" cy="522720"/>
                </a:xfrm>
                <a:custGeom>
                  <a:avLst/>
                  <a:gdLst/>
                  <a:ahLst/>
                  <a:rect l="0" t="0" r="r" b="b"/>
                  <a:pathLst>
                    <a:path w="1170" h="1452">
                      <a:moveTo>
                        <a:pt x="233" y="622"/>
                      </a:moveTo>
                      <a:lnTo>
                        <a:pt x="0" y="622"/>
                      </a:lnTo>
                      <a:lnTo>
                        <a:pt x="0" y="516"/>
                      </a:lnTo>
                      <a:lnTo>
                        <a:pt x="22" y="424"/>
                      </a:lnTo>
                      <a:lnTo>
                        <a:pt x="39" y="361"/>
                      </a:lnTo>
                      <a:lnTo>
                        <a:pt x="79" y="277"/>
                      </a:lnTo>
                      <a:lnTo>
                        <a:pt x="119" y="220"/>
                      </a:lnTo>
                      <a:lnTo>
                        <a:pt x="171" y="163"/>
                      </a:lnTo>
                      <a:lnTo>
                        <a:pt x="207" y="127"/>
                      </a:lnTo>
                      <a:lnTo>
                        <a:pt x="277" y="79"/>
                      </a:lnTo>
                      <a:lnTo>
                        <a:pt x="344" y="44"/>
                      </a:lnTo>
                      <a:lnTo>
                        <a:pt x="411" y="22"/>
                      </a:lnTo>
                      <a:lnTo>
                        <a:pt x="472" y="8"/>
                      </a:lnTo>
                      <a:lnTo>
                        <a:pt x="543" y="0"/>
                      </a:lnTo>
                      <a:lnTo>
                        <a:pt x="622" y="0"/>
                      </a:lnTo>
                      <a:lnTo>
                        <a:pt x="715" y="8"/>
                      </a:lnTo>
                      <a:lnTo>
                        <a:pt x="821" y="30"/>
                      </a:lnTo>
                      <a:lnTo>
                        <a:pt x="879" y="52"/>
                      </a:lnTo>
                      <a:lnTo>
                        <a:pt x="936" y="88"/>
                      </a:lnTo>
                      <a:lnTo>
                        <a:pt x="1007" y="136"/>
                      </a:lnTo>
                      <a:lnTo>
                        <a:pt x="1064" y="194"/>
                      </a:lnTo>
                      <a:lnTo>
                        <a:pt x="1108" y="268"/>
                      </a:lnTo>
                      <a:lnTo>
                        <a:pt x="1148" y="361"/>
                      </a:lnTo>
                      <a:lnTo>
                        <a:pt x="1170" y="481"/>
                      </a:lnTo>
                      <a:lnTo>
                        <a:pt x="1170" y="569"/>
                      </a:lnTo>
                      <a:lnTo>
                        <a:pt x="1152" y="658"/>
                      </a:lnTo>
                      <a:lnTo>
                        <a:pt x="1126" y="733"/>
                      </a:lnTo>
                      <a:lnTo>
                        <a:pt x="1086" y="785"/>
                      </a:lnTo>
                      <a:lnTo>
                        <a:pt x="1011" y="869"/>
                      </a:lnTo>
                      <a:lnTo>
                        <a:pt x="967" y="909"/>
                      </a:lnTo>
                      <a:lnTo>
                        <a:pt x="910" y="971"/>
                      </a:lnTo>
                      <a:lnTo>
                        <a:pt x="869" y="1010"/>
                      </a:lnTo>
                      <a:lnTo>
                        <a:pt x="799" y="1081"/>
                      </a:lnTo>
                      <a:lnTo>
                        <a:pt x="746" y="1157"/>
                      </a:lnTo>
                      <a:lnTo>
                        <a:pt x="710" y="1227"/>
                      </a:lnTo>
                      <a:lnTo>
                        <a:pt x="688" y="1298"/>
                      </a:lnTo>
                      <a:lnTo>
                        <a:pt x="680" y="1355"/>
                      </a:lnTo>
                      <a:lnTo>
                        <a:pt x="680" y="1452"/>
                      </a:lnTo>
                      <a:lnTo>
                        <a:pt x="450" y="1452"/>
                      </a:lnTo>
                      <a:lnTo>
                        <a:pt x="450" y="1391"/>
                      </a:lnTo>
                      <a:lnTo>
                        <a:pt x="455" y="1307"/>
                      </a:lnTo>
                      <a:lnTo>
                        <a:pt x="472" y="1219"/>
                      </a:lnTo>
                      <a:lnTo>
                        <a:pt x="486" y="1170"/>
                      </a:lnTo>
                      <a:lnTo>
                        <a:pt x="521" y="1100"/>
                      </a:lnTo>
                      <a:lnTo>
                        <a:pt x="552" y="1041"/>
                      </a:lnTo>
                      <a:lnTo>
                        <a:pt x="605" y="988"/>
                      </a:lnTo>
                      <a:lnTo>
                        <a:pt x="644" y="935"/>
                      </a:lnTo>
                      <a:lnTo>
                        <a:pt x="710" y="874"/>
                      </a:lnTo>
                      <a:lnTo>
                        <a:pt x="772" y="812"/>
                      </a:lnTo>
                      <a:lnTo>
                        <a:pt x="825" y="759"/>
                      </a:lnTo>
                      <a:lnTo>
                        <a:pt x="879" y="684"/>
                      </a:lnTo>
                      <a:lnTo>
                        <a:pt x="914" y="587"/>
                      </a:lnTo>
                      <a:lnTo>
                        <a:pt x="923" y="499"/>
                      </a:lnTo>
                      <a:lnTo>
                        <a:pt x="910" y="419"/>
                      </a:lnTo>
                      <a:lnTo>
                        <a:pt x="879" y="352"/>
                      </a:lnTo>
                      <a:lnTo>
                        <a:pt x="838" y="282"/>
                      </a:lnTo>
                      <a:lnTo>
                        <a:pt x="750" y="229"/>
                      </a:lnTo>
                      <a:lnTo>
                        <a:pt x="666" y="207"/>
                      </a:lnTo>
                      <a:lnTo>
                        <a:pt x="622" y="202"/>
                      </a:lnTo>
                      <a:lnTo>
                        <a:pt x="547" y="202"/>
                      </a:lnTo>
                      <a:lnTo>
                        <a:pt x="512" y="216"/>
                      </a:lnTo>
                      <a:lnTo>
                        <a:pt x="459" y="220"/>
                      </a:lnTo>
                      <a:lnTo>
                        <a:pt x="393" y="251"/>
                      </a:lnTo>
                      <a:lnTo>
                        <a:pt x="353" y="286"/>
                      </a:lnTo>
                      <a:lnTo>
                        <a:pt x="296" y="343"/>
                      </a:lnTo>
                      <a:lnTo>
                        <a:pt x="264" y="406"/>
                      </a:lnTo>
                      <a:lnTo>
                        <a:pt x="246" y="477"/>
                      </a:lnTo>
                      <a:lnTo>
                        <a:pt x="238" y="565"/>
                      </a:lnTo>
                      <a:lnTo>
                        <a:pt x="233" y="622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370320" y="3908520"/>
                  <a:ext cx="92160" cy="95400"/>
                </a:xfrm>
                <a:prstGeom prst="rect">
                  <a:avLst/>
                </a:pr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3137040" y="4145040"/>
              <a:ext cx="581040" cy="696960"/>
              <a:chOff x="3137040" y="4145040"/>
              <a:chExt cx="581040" cy="696960"/>
            </a:xfrm>
          </p:grpSpPr>
          <p:sp>
            <p:nvSpPr>
              <p:cNvPr id="243" name=""/>
              <p:cNvSpPr/>
              <p:nvPr/>
            </p:nvSpPr>
            <p:spPr>
              <a:xfrm>
                <a:off x="3137040" y="4205160"/>
                <a:ext cx="581040" cy="577800"/>
              </a:xfrm>
              <a:prstGeom prst="roundRect">
                <a:avLst/>
              </a:prstGeom>
              <a:solidFill>
                <a:srgbClr val="f57b49"/>
              </a:solidFill>
              <a:ln w="38160">
                <a:solidFill>
                  <a:srgbClr val="919191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3211560" y="4145040"/>
                <a:ext cx="421200" cy="696960"/>
                <a:chOff x="3211560" y="4145040"/>
                <a:chExt cx="421200" cy="696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11560" y="4145040"/>
                  <a:ext cx="421200" cy="522720"/>
                </a:xfrm>
                <a:custGeom>
                  <a:avLst/>
                  <a:gdLst/>
                  <a:ahLst/>
                  <a:rect l="0" t="0" r="r" b="b"/>
                  <a:pathLst>
                    <a:path w="1170" h="1452">
                      <a:moveTo>
                        <a:pt x="233" y="622"/>
                      </a:moveTo>
                      <a:lnTo>
                        <a:pt x="0" y="622"/>
                      </a:lnTo>
                      <a:lnTo>
                        <a:pt x="0" y="516"/>
                      </a:lnTo>
                      <a:lnTo>
                        <a:pt x="22" y="424"/>
                      </a:lnTo>
                      <a:lnTo>
                        <a:pt x="39" y="361"/>
                      </a:lnTo>
                      <a:lnTo>
                        <a:pt x="79" y="277"/>
                      </a:lnTo>
                      <a:lnTo>
                        <a:pt x="119" y="220"/>
                      </a:lnTo>
                      <a:lnTo>
                        <a:pt x="171" y="163"/>
                      </a:lnTo>
                      <a:lnTo>
                        <a:pt x="207" y="127"/>
                      </a:lnTo>
                      <a:lnTo>
                        <a:pt x="277" y="79"/>
                      </a:lnTo>
                      <a:lnTo>
                        <a:pt x="344" y="44"/>
                      </a:lnTo>
                      <a:lnTo>
                        <a:pt x="411" y="22"/>
                      </a:lnTo>
                      <a:lnTo>
                        <a:pt x="472" y="8"/>
                      </a:lnTo>
                      <a:lnTo>
                        <a:pt x="543" y="0"/>
                      </a:lnTo>
                      <a:lnTo>
                        <a:pt x="622" y="0"/>
                      </a:lnTo>
                      <a:lnTo>
                        <a:pt x="715" y="8"/>
                      </a:lnTo>
                      <a:lnTo>
                        <a:pt x="821" y="30"/>
                      </a:lnTo>
                      <a:lnTo>
                        <a:pt x="879" y="52"/>
                      </a:lnTo>
                      <a:lnTo>
                        <a:pt x="936" y="88"/>
                      </a:lnTo>
                      <a:lnTo>
                        <a:pt x="1007" y="136"/>
                      </a:lnTo>
                      <a:lnTo>
                        <a:pt x="1064" y="194"/>
                      </a:lnTo>
                      <a:lnTo>
                        <a:pt x="1108" y="268"/>
                      </a:lnTo>
                      <a:lnTo>
                        <a:pt x="1148" y="361"/>
                      </a:lnTo>
                      <a:lnTo>
                        <a:pt x="1170" y="481"/>
                      </a:lnTo>
                      <a:lnTo>
                        <a:pt x="1170" y="569"/>
                      </a:lnTo>
                      <a:lnTo>
                        <a:pt x="1152" y="658"/>
                      </a:lnTo>
                      <a:lnTo>
                        <a:pt x="1126" y="733"/>
                      </a:lnTo>
                      <a:lnTo>
                        <a:pt x="1086" y="785"/>
                      </a:lnTo>
                      <a:lnTo>
                        <a:pt x="1011" y="869"/>
                      </a:lnTo>
                      <a:lnTo>
                        <a:pt x="967" y="909"/>
                      </a:lnTo>
                      <a:lnTo>
                        <a:pt x="910" y="971"/>
                      </a:lnTo>
                      <a:lnTo>
                        <a:pt x="869" y="1010"/>
                      </a:lnTo>
                      <a:lnTo>
                        <a:pt x="799" y="1081"/>
                      </a:lnTo>
                      <a:lnTo>
                        <a:pt x="746" y="1157"/>
                      </a:lnTo>
                      <a:lnTo>
                        <a:pt x="710" y="1227"/>
                      </a:lnTo>
                      <a:lnTo>
                        <a:pt x="688" y="1298"/>
                      </a:lnTo>
                      <a:lnTo>
                        <a:pt x="680" y="1355"/>
                      </a:lnTo>
                      <a:lnTo>
                        <a:pt x="680" y="1452"/>
                      </a:lnTo>
                      <a:lnTo>
                        <a:pt x="450" y="1452"/>
                      </a:lnTo>
                      <a:lnTo>
                        <a:pt x="450" y="1391"/>
                      </a:lnTo>
                      <a:lnTo>
                        <a:pt x="455" y="1307"/>
                      </a:lnTo>
                      <a:lnTo>
                        <a:pt x="472" y="1219"/>
                      </a:lnTo>
                      <a:lnTo>
                        <a:pt x="486" y="1170"/>
                      </a:lnTo>
                      <a:lnTo>
                        <a:pt x="521" y="1100"/>
                      </a:lnTo>
                      <a:lnTo>
                        <a:pt x="552" y="1041"/>
                      </a:lnTo>
                      <a:lnTo>
                        <a:pt x="605" y="988"/>
                      </a:lnTo>
                      <a:lnTo>
                        <a:pt x="644" y="935"/>
                      </a:lnTo>
                      <a:lnTo>
                        <a:pt x="710" y="874"/>
                      </a:lnTo>
                      <a:lnTo>
                        <a:pt x="772" y="812"/>
                      </a:lnTo>
                      <a:lnTo>
                        <a:pt x="825" y="759"/>
                      </a:lnTo>
                      <a:lnTo>
                        <a:pt x="879" y="684"/>
                      </a:lnTo>
                      <a:lnTo>
                        <a:pt x="914" y="587"/>
                      </a:lnTo>
                      <a:lnTo>
                        <a:pt x="923" y="499"/>
                      </a:lnTo>
                      <a:lnTo>
                        <a:pt x="910" y="419"/>
                      </a:lnTo>
                      <a:lnTo>
                        <a:pt x="879" y="352"/>
                      </a:lnTo>
                      <a:lnTo>
                        <a:pt x="838" y="282"/>
                      </a:lnTo>
                      <a:lnTo>
                        <a:pt x="750" y="229"/>
                      </a:lnTo>
                      <a:lnTo>
                        <a:pt x="666" y="207"/>
                      </a:lnTo>
                      <a:lnTo>
                        <a:pt x="622" y="202"/>
                      </a:lnTo>
                      <a:lnTo>
                        <a:pt x="547" y="202"/>
                      </a:lnTo>
                      <a:lnTo>
                        <a:pt x="512" y="216"/>
                      </a:lnTo>
                      <a:lnTo>
                        <a:pt x="459" y="220"/>
                      </a:lnTo>
                      <a:lnTo>
                        <a:pt x="393" y="251"/>
                      </a:lnTo>
                      <a:lnTo>
                        <a:pt x="353" y="286"/>
                      </a:lnTo>
                      <a:lnTo>
                        <a:pt x="296" y="343"/>
                      </a:lnTo>
                      <a:lnTo>
                        <a:pt x="264" y="406"/>
                      </a:lnTo>
                      <a:lnTo>
                        <a:pt x="246" y="477"/>
                      </a:lnTo>
                      <a:lnTo>
                        <a:pt x="238" y="565"/>
                      </a:lnTo>
                      <a:lnTo>
                        <a:pt x="233" y="622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70320" y="4746600"/>
                  <a:ext cx="92160" cy="95400"/>
                </a:xfrm>
                <a:prstGeom prst="rect">
                  <a:avLst/>
                </a:pr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"/>
            <p:cNvGrpSpPr/>
            <p:nvPr/>
          </p:nvGrpSpPr>
          <p:grpSpPr>
            <a:xfrm>
              <a:off x="3137040" y="4983120"/>
              <a:ext cx="581040" cy="696960"/>
              <a:chOff x="3137040" y="4983120"/>
              <a:chExt cx="581040" cy="696960"/>
            </a:xfrm>
          </p:grpSpPr>
          <p:sp>
            <p:nvSpPr>
              <p:cNvPr id="248" name=""/>
              <p:cNvSpPr/>
              <p:nvPr/>
            </p:nvSpPr>
            <p:spPr>
              <a:xfrm>
                <a:off x="3137040" y="5043600"/>
                <a:ext cx="581040" cy="577800"/>
              </a:xfrm>
              <a:prstGeom prst="roundRect">
                <a:avLst/>
              </a:prstGeom>
              <a:solidFill>
                <a:srgbClr val="f57b49"/>
              </a:solidFill>
              <a:ln w="38160">
                <a:solidFill>
                  <a:srgbClr val="919191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211560" y="4983120"/>
                <a:ext cx="421200" cy="696960"/>
                <a:chOff x="3211560" y="4983120"/>
                <a:chExt cx="421200" cy="6969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211560" y="4983120"/>
                  <a:ext cx="421200" cy="522720"/>
                </a:xfrm>
                <a:custGeom>
                  <a:avLst/>
                  <a:gdLst/>
                  <a:ahLst/>
                  <a:rect l="0" t="0" r="r" b="b"/>
                  <a:pathLst>
                    <a:path w="1170" h="1452">
                      <a:moveTo>
                        <a:pt x="233" y="622"/>
                      </a:moveTo>
                      <a:lnTo>
                        <a:pt x="0" y="622"/>
                      </a:lnTo>
                      <a:lnTo>
                        <a:pt x="0" y="516"/>
                      </a:lnTo>
                      <a:lnTo>
                        <a:pt x="22" y="424"/>
                      </a:lnTo>
                      <a:lnTo>
                        <a:pt x="39" y="361"/>
                      </a:lnTo>
                      <a:lnTo>
                        <a:pt x="79" y="277"/>
                      </a:lnTo>
                      <a:lnTo>
                        <a:pt x="119" y="220"/>
                      </a:lnTo>
                      <a:lnTo>
                        <a:pt x="171" y="163"/>
                      </a:lnTo>
                      <a:lnTo>
                        <a:pt x="207" y="127"/>
                      </a:lnTo>
                      <a:lnTo>
                        <a:pt x="277" y="79"/>
                      </a:lnTo>
                      <a:lnTo>
                        <a:pt x="344" y="44"/>
                      </a:lnTo>
                      <a:lnTo>
                        <a:pt x="411" y="22"/>
                      </a:lnTo>
                      <a:lnTo>
                        <a:pt x="472" y="8"/>
                      </a:lnTo>
                      <a:lnTo>
                        <a:pt x="543" y="0"/>
                      </a:lnTo>
                      <a:lnTo>
                        <a:pt x="622" y="0"/>
                      </a:lnTo>
                      <a:lnTo>
                        <a:pt x="715" y="8"/>
                      </a:lnTo>
                      <a:lnTo>
                        <a:pt x="821" y="30"/>
                      </a:lnTo>
                      <a:lnTo>
                        <a:pt x="879" y="52"/>
                      </a:lnTo>
                      <a:lnTo>
                        <a:pt x="936" y="88"/>
                      </a:lnTo>
                      <a:lnTo>
                        <a:pt x="1007" y="136"/>
                      </a:lnTo>
                      <a:lnTo>
                        <a:pt x="1064" y="194"/>
                      </a:lnTo>
                      <a:lnTo>
                        <a:pt x="1108" y="268"/>
                      </a:lnTo>
                      <a:lnTo>
                        <a:pt x="1148" y="361"/>
                      </a:lnTo>
                      <a:lnTo>
                        <a:pt x="1170" y="481"/>
                      </a:lnTo>
                      <a:lnTo>
                        <a:pt x="1170" y="569"/>
                      </a:lnTo>
                      <a:lnTo>
                        <a:pt x="1152" y="658"/>
                      </a:lnTo>
                      <a:lnTo>
                        <a:pt x="1126" y="733"/>
                      </a:lnTo>
                      <a:lnTo>
                        <a:pt x="1086" y="785"/>
                      </a:lnTo>
                      <a:lnTo>
                        <a:pt x="1011" y="869"/>
                      </a:lnTo>
                      <a:lnTo>
                        <a:pt x="967" y="909"/>
                      </a:lnTo>
                      <a:lnTo>
                        <a:pt x="910" y="971"/>
                      </a:lnTo>
                      <a:lnTo>
                        <a:pt x="869" y="1010"/>
                      </a:lnTo>
                      <a:lnTo>
                        <a:pt x="799" y="1081"/>
                      </a:lnTo>
                      <a:lnTo>
                        <a:pt x="746" y="1157"/>
                      </a:lnTo>
                      <a:lnTo>
                        <a:pt x="710" y="1227"/>
                      </a:lnTo>
                      <a:lnTo>
                        <a:pt x="688" y="1298"/>
                      </a:lnTo>
                      <a:lnTo>
                        <a:pt x="680" y="1355"/>
                      </a:lnTo>
                      <a:lnTo>
                        <a:pt x="680" y="1452"/>
                      </a:lnTo>
                      <a:lnTo>
                        <a:pt x="450" y="1452"/>
                      </a:lnTo>
                      <a:lnTo>
                        <a:pt x="450" y="1391"/>
                      </a:lnTo>
                      <a:lnTo>
                        <a:pt x="455" y="1307"/>
                      </a:lnTo>
                      <a:lnTo>
                        <a:pt x="472" y="1219"/>
                      </a:lnTo>
                      <a:lnTo>
                        <a:pt x="486" y="1170"/>
                      </a:lnTo>
                      <a:lnTo>
                        <a:pt x="521" y="1100"/>
                      </a:lnTo>
                      <a:lnTo>
                        <a:pt x="552" y="1041"/>
                      </a:lnTo>
                      <a:lnTo>
                        <a:pt x="605" y="988"/>
                      </a:lnTo>
                      <a:lnTo>
                        <a:pt x="644" y="935"/>
                      </a:lnTo>
                      <a:lnTo>
                        <a:pt x="710" y="874"/>
                      </a:lnTo>
                      <a:lnTo>
                        <a:pt x="772" y="812"/>
                      </a:lnTo>
                      <a:lnTo>
                        <a:pt x="825" y="759"/>
                      </a:lnTo>
                      <a:lnTo>
                        <a:pt x="879" y="684"/>
                      </a:lnTo>
                      <a:lnTo>
                        <a:pt x="914" y="587"/>
                      </a:lnTo>
                      <a:lnTo>
                        <a:pt x="923" y="499"/>
                      </a:lnTo>
                      <a:lnTo>
                        <a:pt x="910" y="419"/>
                      </a:lnTo>
                      <a:lnTo>
                        <a:pt x="879" y="352"/>
                      </a:lnTo>
                      <a:lnTo>
                        <a:pt x="838" y="282"/>
                      </a:lnTo>
                      <a:lnTo>
                        <a:pt x="750" y="229"/>
                      </a:lnTo>
                      <a:lnTo>
                        <a:pt x="666" y="207"/>
                      </a:lnTo>
                      <a:lnTo>
                        <a:pt x="622" y="202"/>
                      </a:lnTo>
                      <a:lnTo>
                        <a:pt x="547" y="202"/>
                      </a:lnTo>
                      <a:lnTo>
                        <a:pt x="512" y="216"/>
                      </a:lnTo>
                      <a:lnTo>
                        <a:pt x="459" y="220"/>
                      </a:lnTo>
                      <a:lnTo>
                        <a:pt x="393" y="251"/>
                      </a:lnTo>
                      <a:lnTo>
                        <a:pt x="353" y="286"/>
                      </a:lnTo>
                      <a:lnTo>
                        <a:pt x="296" y="343"/>
                      </a:lnTo>
                      <a:lnTo>
                        <a:pt x="264" y="406"/>
                      </a:lnTo>
                      <a:lnTo>
                        <a:pt x="246" y="477"/>
                      </a:lnTo>
                      <a:lnTo>
                        <a:pt x="238" y="565"/>
                      </a:lnTo>
                      <a:lnTo>
                        <a:pt x="233" y="622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370320" y="5584680"/>
                  <a:ext cx="92160" cy="95400"/>
                </a:xfrm>
                <a:prstGeom prst="rect">
                  <a:avLst/>
                </a:pr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3137040" y="5821200"/>
              <a:ext cx="581040" cy="697320"/>
              <a:chOff x="3137040" y="5821200"/>
              <a:chExt cx="581040" cy="697320"/>
            </a:xfrm>
          </p:grpSpPr>
          <p:sp>
            <p:nvSpPr>
              <p:cNvPr id="253" name=""/>
              <p:cNvSpPr/>
              <p:nvPr/>
            </p:nvSpPr>
            <p:spPr>
              <a:xfrm>
                <a:off x="3137040" y="5881680"/>
                <a:ext cx="581040" cy="577800"/>
              </a:xfrm>
              <a:prstGeom prst="roundRect">
                <a:avLst/>
              </a:prstGeom>
              <a:solidFill>
                <a:srgbClr val="f57b49"/>
              </a:solidFill>
              <a:ln w="38160">
                <a:solidFill>
                  <a:srgbClr val="919191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211560" y="5821200"/>
                <a:ext cx="421200" cy="697320"/>
                <a:chOff x="3211560" y="5821200"/>
                <a:chExt cx="421200" cy="6973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211560" y="5821200"/>
                  <a:ext cx="421200" cy="522720"/>
                </a:xfrm>
                <a:custGeom>
                  <a:avLst/>
                  <a:gdLst/>
                  <a:ahLst/>
                  <a:rect l="0" t="0" r="r" b="b"/>
                  <a:pathLst>
                    <a:path w="1170" h="1452">
                      <a:moveTo>
                        <a:pt x="233" y="622"/>
                      </a:moveTo>
                      <a:lnTo>
                        <a:pt x="0" y="622"/>
                      </a:lnTo>
                      <a:lnTo>
                        <a:pt x="0" y="516"/>
                      </a:lnTo>
                      <a:lnTo>
                        <a:pt x="22" y="424"/>
                      </a:lnTo>
                      <a:lnTo>
                        <a:pt x="39" y="361"/>
                      </a:lnTo>
                      <a:lnTo>
                        <a:pt x="79" y="277"/>
                      </a:lnTo>
                      <a:lnTo>
                        <a:pt x="119" y="220"/>
                      </a:lnTo>
                      <a:lnTo>
                        <a:pt x="171" y="163"/>
                      </a:lnTo>
                      <a:lnTo>
                        <a:pt x="207" y="127"/>
                      </a:lnTo>
                      <a:lnTo>
                        <a:pt x="277" y="79"/>
                      </a:lnTo>
                      <a:lnTo>
                        <a:pt x="344" y="44"/>
                      </a:lnTo>
                      <a:lnTo>
                        <a:pt x="411" y="22"/>
                      </a:lnTo>
                      <a:lnTo>
                        <a:pt x="472" y="8"/>
                      </a:lnTo>
                      <a:lnTo>
                        <a:pt x="543" y="0"/>
                      </a:lnTo>
                      <a:lnTo>
                        <a:pt x="622" y="0"/>
                      </a:lnTo>
                      <a:lnTo>
                        <a:pt x="715" y="8"/>
                      </a:lnTo>
                      <a:lnTo>
                        <a:pt x="821" y="30"/>
                      </a:lnTo>
                      <a:lnTo>
                        <a:pt x="879" y="52"/>
                      </a:lnTo>
                      <a:lnTo>
                        <a:pt x="936" y="88"/>
                      </a:lnTo>
                      <a:lnTo>
                        <a:pt x="1007" y="136"/>
                      </a:lnTo>
                      <a:lnTo>
                        <a:pt x="1064" y="194"/>
                      </a:lnTo>
                      <a:lnTo>
                        <a:pt x="1108" y="268"/>
                      </a:lnTo>
                      <a:lnTo>
                        <a:pt x="1148" y="361"/>
                      </a:lnTo>
                      <a:lnTo>
                        <a:pt x="1170" y="481"/>
                      </a:lnTo>
                      <a:lnTo>
                        <a:pt x="1170" y="569"/>
                      </a:lnTo>
                      <a:lnTo>
                        <a:pt x="1152" y="658"/>
                      </a:lnTo>
                      <a:lnTo>
                        <a:pt x="1126" y="733"/>
                      </a:lnTo>
                      <a:lnTo>
                        <a:pt x="1086" y="785"/>
                      </a:lnTo>
                      <a:lnTo>
                        <a:pt x="1011" y="869"/>
                      </a:lnTo>
                      <a:lnTo>
                        <a:pt x="967" y="909"/>
                      </a:lnTo>
                      <a:lnTo>
                        <a:pt x="910" y="971"/>
                      </a:lnTo>
                      <a:lnTo>
                        <a:pt x="869" y="1010"/>
                      </a:lnTo>
                      <a:lnTo>
                        <a:pt x="799" y="1081"/>
                      </a:lnTo>
                      <a:lnTo>
                        <a:pt x="746" y="1157"/>
                      </a:lnTo>
                      <a:lnTo>
                        <a:pt x="710" y="1227"/>
                      </a:lnTo>
                      <a:lnTo>
                        <a:pt x="688" y="1298"/>
                      </a:lnTo>
                      <a:lnTo>
                        <a:pt x="680" y="1355"/>
                      </a:lnTo>
                      <a:lnTo>
                        <a:pt x="680" y="1452"/>
                      </a:lnTo>
                      <a:lnTo>
                        <a:pt x="450" y="1452"/>
                      </a:lnTo>
                      <a:lnTo>
                        <a:pt x="450" y="1391"/>
                      </a:lnTo>
                      <a:lnTo>
                        <a:pt x="455" y="1307"/>
                      </a:lnTo>
                      <a:lnTo>
                        <a:pt x="472" y="1219"/>
                      </a:lnTo>
                      <a:lnTo>
                        <a:pt x="486" y="1170"/>
                      </a:lnTo>
                      <a:lnTo>
                        <a:pt x="521" y="1100"/>
                      </a:lnTo>
                      <a:lnTo>
                        <a:pt x="552" y="1041"/>
                      </a:lnTo>
                      <a:lnTo>
                        <a:pt x="605" y="988"/>
                      </a:lnTo>
                      <a:lnTo>
                        <a:pt x="644" y="935"/>
                      </a:lnTo>
                      <a:lnTo>
                        <a:pt x="710" y="874"/>
                      </a:lnTo>
                      <a:lnTo>
                        <a:pt x="772" y="812"/>
                      </a:lnTo>
                      <a:lnTo>
                        <a:pt x="825" y="759"/>
                      </a:lnTo>
                      <a:lnTo>
                        <a:pt x="879" y="684"/>
                      </a:lnTo>
                      <a:lnTo>
                        <a:pt x="914" y="587"/>
                      </a:lnTo>
                      <a:lnTo>
                        <a:pt x="923" y="499"/>
                      </a:lnTo>
                      <a:lnTo>
                        <a:pt x="910" y="419"/>
                      </a:lnTo>
                      <a:lnTo>
                        <a:pt x="879" y="352"/>
                      </a:lnTo>
                      <a:lnTo>
                        <a:pt x="838" y="282"/>
                      </a:lnTo>
                      <a:lnTo>
                        <a:pt x="750" y="229"/>
                      </a:lnTo>
                      <a:lnTo>
                        <a:pt x="666" y="207"/>
                      </a:lnTo>
                      <a:lnTo>
                        <a:pt x="622" y="202"/>
                      </a:lnTo>
                      <a:lnTo>
                        <a:pt x="547" y="202"/>
                      </a:lnTo>
                      <a:lnTo>
                        <a:pt x="512" y="216"/>
                      </a:lnTo>
                      <a:lnTo>
                        <a:pt x="459" y="220"/>
                      </a:lnTo>
                      <a:lnTo>
                        <a:pt x="393" y="251"/>
                      </a:lnTo>
                      <a:lnTo>
                        <a:pt x="353" y="286"/>
                      </a:lnTo>
                      <a:lnTo>
                        <a:pt x="296" y="343"/>
                      </a:lnTo>
                      <a:lnTo>
                        <a:pt x="264" y="406"/>
                      </a:lnTo>
                      <a:lnTo>
                        <a:pt x="246" y="477"/>
                      </a:lnTo>
                      <a:lnTo>
                        <a:pt x="238" y="565"/>
                      </a:lnTo>
                      <a:lnTo>
                        <a:pt x="233" y="622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370320" y="6423120"/>
                  <a:ext cx="92160" cy="95400"/>
                </a:xfrm>
                <a:prstGeom prst="rect">
                  <a:avLst/>
                </a:pr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137040" y="1630440"/>
              <a:ext cx="581040" cy="696960"/>
              <a:chOff x="3137040" y="1630440"/>
              <a:chExt cx="581040" cy="696960"/>
            </a:xfrm>
          </p:grpSpPr>
          <p:sp>
            <p:nvSpPr>
              <p:cNvPr id="258" name=""/>
              <p:cNvSpPr/>
              <p:nvPr/>
            </p:nvSpPr>
            <p:spPr>
              <a:xfrm>
                <a:off x="3137040" y="1690560"/>
                <a:ext cx="581040" cy="577800"/>
              </a:xfrm>
              <a:prstGeom prst="roundRect">
                <a:avLst/>
              </a:prstGeom>
              <a:solidFill>
                <a:srgbClr val="f57b49"/>
              </a:solidFill>
              <a:ln w="38160">
                <a:solidFill>
                  <a:srgbClr val="919191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211560" y="1630440"/>
                <a:ext cx="421200" cy="696960"/>
                <a:chOff x="3211560" y="1630440"/>
                <a:chExt cx="421200" cy="696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211560" y="1630440"/>
                  <a:ext cx="421200" cy="522720"/>
                </a:xfrm>
                <a:custGeom>
                  <a:avLst/>
                  <a:gdLst/>
                  <a:ahLst/>
                  <a:rect l="0" t="0" r="r" b="b"/>
                  <a:pathLst>
                    <a:path w="1170" h="1452">
                      <a:moveTo>
                        <a:pt x="233" y="622"/>
                      </a:moveTo>
                      <a:lnTo>
                        <a:pt x="0" y="622"/>
                      </a:lnTo>
                      <a:lnTo>
                        <a:pt x="0" y="516"/>
                      </a:lnTo>
                      <a:lnTo>
                        <a:pt x="22" y="424"/>
                      </a:lnTo>
                      <a:lnTo>
                        <a:pt x="39" y="361"/>
                      </a:lnTo>
                      <a:lnTo>
                        <a:pt x="79" y="277"/>
                      </a:lnTo>
                      <a:lnTo>
                        <a:pt x="119" y="220"/>
                      </a:lnTo>
                      <a:lnTo>
                        <a:pt x="171" y="163"/>
                      </a:lnTo>
                      <a:lnTo>
                        <a:pt x="207" y="127"/>
                      </a:lnTo>
                      <a:lnTo>
                        <a:pt x="277" y="79"/>
                      </a:lnTo>
                      <a:lnTo>
                        <a:pt x="344" y="44"/>
                      </a:lnTo>
                      <a:lnTo>
                        <a:pt x="411" y="22"/>
                      </a:lnTo>
                      <a:lnTo>
                        <a:pt x="472" y="8"/>
                      </a:lnTo>
                      <a:lnTo>
                        <a:pt x="543" y="0"/>
                      </a:lnTo>
                      <a:lnTo>
                        <a:pt x="622" y="0"/>
                      </a:lnTo>
                      <a:lnTo>
                        <a:pt x="715" y="8"/>
                      </a:lnTo>
                      <a:lnTo>
                        <a:pt x="821" y="30"/>
                      </a:lnTo>
                      <a:lnTo>
                        <a:pt x="879" y="52"/>
                      </a:lnTo>
                      <a:lnTo>
                        <a:pt x="936" y="88"/>
                      </a:lnTo>
                      <a:lnTo>
                        <a:pt x="1007" y="136"/>
                      </a:lnTo>
                      <a:lnTo>
                        <a:pt x="1064" y="194"/>
                      </a:lnTo>
                      <a:lnTo>
                        <a:pt x="1108" y="268"/>
                      </a:lnTo>
                      <a:lnTo>
                        <a:pt x="1148" y="361"/>
                      </a:lnTo>
                      <a:lnTo>
                        <a:pt x="1170" y="481"/>
                      </a:lnTo>
                      <a:lnTo>
                        <a:pt x="1170" y="569"/>
                      </a:lnTo>
                      <a:lnTo>
                        <a:pt x="1152" y="658"/>
                      </a:lnTo>
                      <a:lnTo>
                        <a:pt x="1126" y="733"/>
                      </a:lnTo>
                      <a:lnTo>
                        <a:pt x="1086" y="785"/>
                      </a:lnTo>
                      <a:lnTo>
                        <a:pt x="1011" y="869"/>
                      </a:lnTo>
                      <a:lnTo>
                        <a:pt x="967" y="909"/>
                      </a:lnTo>
                      <a:lnTo>
                        <a:pt x="910" y="971"/>
                      </a:lnTo>
                      <a:lnTo>
                        <a:pt x="869" y="1010"/>
                      </a:lnTo>
                      <a:lnTo>
                        <a:pt x="799" y="1081"/>
                      </a:lnTo>
                      <a:lnTo>
                        <a:pt x="746" y="1157"/>
                      </a:lnTo>
                      <a:lnTo>
                        <a:pt x="710" y="1227"/>
                      </a:lnTo>
                      <a:lnTo>
                        <a:pt x="688" y="1298"/>
                      </a:lnTo>
                      <a:lnTo>
                        <a:pt x="680" y="1355"/>
                      </a:lnTo>
                      <a:lnTo>
                        <a:pt x="680" y="1452"/>
                      </a:lnTo>
                      <a:lnTo>
                        <a:pt x="450" y="1452"/>
                      </a:lnTo>
                      <a:lnTo>
                        <a:pt x="450" y="1391"/>
                      </a:lnTo>
                      <a:lnTo>
                        <a:pt x="455" y="1307"/>
                      </a:lnTo>
                      <a:lnTo>
                        <a:pt x="472" y="1219"/>
                      </a:lnTo>
                      <a:lnTo>
                        <a:pt x="486" y="1170"/>
                      </a:lnTo>
                      <a:lnTo>
                        <a:pt x="521" y="1100"/>
                      </a:lnTo>
                      <a:lnTo>
                        <a:pt x="552" y="1041"/>
                      </a:lnTo>
                      <a:lnTo>
                        <a:pt x="605" y="988"/>
                      </a:lnTo>
                      <a:lnTo>
                        <a:pt x="644" y="935"/>
                      </a:lnTo>
                      <a:lnTo>
                        <a:pt x="710" y="874"/>
                      </a:lnTo>
                      <a:lnTo>
                        <a:pt x="772" y="812"/>
                      </a:lnTo>
                      <a:lnTo>
                        <a:pt x="825" y="759"/>
                      </a:lnTo>
                      <a:lnTo>
                        <a:pt x="879" y="684"/>
                      </a:lnTo>
                      <a:lnTo>
                        <a:pt x="914" y="587"/>
                      </a:lnTo>
                      <a:lnTo>
                        <a:pt x="923" y="499"/>
                      </a:lnTo>
                      <a:lnTo>
                        <a:pt x="910" y="419"/>
                      </a:lnTo>
                      <a:lnTo>
                        <a:pt x="879" y="352"/>
                      </a:lnTo>
                      <a:lnTo>
                        <a:pt x="838" y="282"/>
                      </a:lnTo>
                      <a:lnTo>
                        <a:pt x="750" y="229"/>
                      </a:lnTo>
                      <a:lnTo>
                        <a:pt x="666" y="207"/>
                      </a:lnTo>
                      <a:lnTo>
                        <a:pt x="622" y="202"/>
                      </a:lnTo>
                      <a:lnTo>
                        <a:pt x="547" y="202"/>
                      </a:lnTo>
                      <a:lnTo>
                        <a:pt x="512" y="216"/>
                      </a:lnTo>
                      <a:lnTo>
                        <a:pt x="459" y="220"/>
                      </a:lnTo>
                      <a:lnTo>
                        <a:pt x="393" y="251"/>
                      </a:lnTo>
                      <a:lnTo>
                        <a:pt x="353" y="286"/>
                      </a:lnTo>
                      <a:lnTo>
                        <a:pt x="296" y="343"/>
                      </a:lnTo>
                      <a:lnTo>
                        <a:pt x="264" y="406"/>
                      </a:lnTo>
                      <a:lnTo>
                        <a:pt x="246" y="477"/>
                      </a:lnTo>
                      <a:lnTo>
                        <a:pt x="238" y="565"/>
                      </a:lnTo>
                      <a:lnTo>
                        <a:pt x="233" y="622"/>
                      </a:lnTo>
                      <a:close/>
                    </a:path>
                  </a:pathLst>
                </a:cu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70320" y="2232000"/>
                  <a:ext cx="92160" cy="95400"/>
                </a:xfrm>
                <a:prstGeom prst="rect">
                  <a:avLst/>
                </a:prstGeom>
                <a:solidFill>
                  <a:srgbClr val="f57b4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2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4572000"/>
            <a:ext cx="5334120" cy="1447920"/>
          </a:xfrm>
          <a:prstGeom prst="roundRect">
            <a:avLst/>
          </a:prstGeom>
          <a:solidFill>
            <a:srgbClr val="f6bf6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3124080"/>
            <a:ext cx="5334120" cy="1295280"/>
          </a:xfrm>
          <a:prstGeom prst="roundRect">
            <a:avLst/>
          </a:prstGeom>
          <a:solidFill>
            <a:srgbClr val="f6bf6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676520"/>
            <a:ext cx="5334120" cy="1295280"/>
          </a:xfrm>
          <a:prstGeom prst="roundRect">
            <a:avLst/>
          </a:prstGeom>
          <a:solidFill>
            <a:srgbClr val="f6bf6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98480" y="1100160"/>
            <a:ext cx="78487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лючевые качества консульта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1905120"/>
            <a:ext cx="2514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2057400"/>
            <a:ext cx="2590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27000" y="1714680"/>
            <a:ext cx="791532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ехнические навы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академическая подготов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актические приемы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32040" y="3276720"/>
            <a:ext cx="540072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ы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 работы на предприят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 деятельности как консульт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4648320"/>
            <a:ext cx="50864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ние отрасли и предмета консультир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еоретическо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акт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245280" y="2046240"/>
            <a:ext cx="2494080" cy="3135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61920" y="1047600"/>
            <a:ext cx="7848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овы Ваши основные консультационные спосособности/навыки и соответствующие им продук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79480" y="1666800"/>
            <a:ext cx="1990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дивидуа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пособност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156120" y="1766880"/>
            <a:ext cx="3092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пособности вашей организации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70480" y="1762200"/>
            <a:ext cx="2165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енциальные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2286000"/>
            <a:ext cx="8077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29040" y="22860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05400" y="22860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2860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686800" y="2276640"/>
            <a:ext cx="9360" cy="3571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6320" y="1052640"/>
            <a:ext cx="7915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нимание конкуренции помогает определить направления и альтернативные варианты консультир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95320" y="1866960"/>
            <a:ext cx="78487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курент — это любой, кто предлагает конкурирующий продукт или услугу целевой групп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.к. в принципе серьезных препятствий для проникновения на консультационный рынок не наблюдается, то на нем может существовать широкий диапазон качества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ная хорошо своего конкурента, можно выбрать  удобную  позицию на стадии предложения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.к. конкуренты стремятся добиться преимущества,  знание их стратегии и техники консультирования может подсказать подходы для использования в буду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83560" y="685800"/>
            <a:ext cx="1828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962000" y="1333440"/>
            <a:ext cx="5715360" cy="5170680"/>
            <a:chOff x="1962000" y="1333440"/>
            <a:chExt cx="5715360" cy="5170680"/>
          </a:xfrm>
        </p:grpSpPr>
        <p:sp>
          <p:nvSpPr>
            <p:cNvPr id="289" name=""/>
            <p:cNvSpPr/>
            <p:nvPr/>
          </p:nvSpPr>
          <p:spPr>
            <a:xfrm>
              <a:off x="2409840" y="5999040"/>
              <a:ext cx="1019520" cy="505080"/>
            </a:xfrm>
            <a:custGeom>
              <a:avLst/>
              <a:gdLst/>
              <a:ahLst/>
              <a:rect l="0" t="0" r="r" b="b"/>
              <a:pathLst>
                <a:path w="2832" h="1403">
                  <a:moveTo>
                    <a:pt x="1813" y="0"/>
                  </a:moveTo>
                  <a:lnTo>
                    <a:pt x="370" y="119"/>
                  </a:lnTo>
                  <a:lnTo>
                    <a:pt x="224" y="211"/>
                  </a:lnTo>
                  <a:lnTo>
                    <a:pt x="136" y="317"/>
                  </a:lnTo>
                  <a:lnTo>
                    <a:pt x="57" y="436"/>
                  </a:lnTo>
                  <a:lnTo>
                    <a:pt x="0" y="635"/>
                  </a:lnTo>
                  <a:lnTo>
                    <a:pt x="8" y="856"/>
                  </a:lnTo>
                  <a:lnTo>
                    <a:pt x="57" y="975"/>
                  </a:lnTo>
                  <a:lnTo>
                    <a:pt x="136" y="1107"/>
                  </a:lnTo>
                  <a:lnTo>
                    <a:pt x="286" y="1218"/>
                  </a:lnTo>
                  <a:lnTo>
                    <a:pt x="463" y="1310"/>
                  </a:lnTo>
                  <a:lnTo>
                    <a:pt x="648" y="1363"/>
                  </a:lnTo>
                  <a:lnTo>
                    <a:pt x="802" y="1390"/>
                  </a:lnTo>
                  <a:lnTo>
                    <a:pt x="1009" y="1403"/>
                  </a:lnTo>
                  <a:lnTo>
                    <a:pt x="996" y="1390"/>
                  </a:lnTo>
                  <a:lnTo>
                    <a:pt x="2117" y="1297"/>
                  </a:lnTo>
                  <a:lnTo>
                    <a:pt x="2832" y="0"/>
                  </a:lnTo>
                  <a:lnTo>
                    <a:pt x="1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62000" y="1333440"/>
              <a:ext cx="5715360" cy="5166000"/>
            </a:xfrm>
            <a:custGeom>
              <a:avLst/>
              <a:gdLst/>
              <a:ahLst/>
              <a:rect l="0" t="0" r="r" b="b"/>
              <a:pathLst>
                <a:path w="15876" h="14350">
                  <a:moveTo>
                    <a:pt x="1001" y="26"/>
                  </a:moveTo>
                  <a:lnTo>
                    <a:pt x="890" y="52"/>
                  </a:lnTo>
                  <a:lnTo>
                    <a:pt x="745" y="114"/>
                  </a:lnTo>
                  <a:lnTo>
                    <a:pt x="568" y="246"/>
                  </a:lnTo>
                  <a:lnTo>
                    <a:pt x="335" y="436"/>
                  </a:lnTo>
                  <a:lnTo>
                    <a:pt x="167" y="643"/>
                  </a:lnTo>
                  <a:lnTo>
                    <a:pt x="70" y="859"/>
                  </a:lnTo>
                  <a:lnTo>
                    <a:pt x="30" y="1053"/>
                  </a:lnTo>
                  <a:lnTo>
                    <a:pt x="0" y="1305"/>
                  </a:lnTo>
                  <a:lnTo>
                    <a:pt x="0" y="1547"/>
                  </a:lnTo>
                  <a:lnTo>
                    <a:pt x="39" y="1755"/>
                  </a:lnTo>
                  <a:lnTo>
                    <a:pt x="70" y="1966"/>
                  </a:lnTo>
                  <a:lnTo>
                    <a:pt x="119" y="2151"/>
                  </a:lnTo>
                  <a:lnTo>
                    <a:pt x="282" y="2641"/>
                  </a:lnTo>
                  <a:lnTo>
                    <a:pt x="507" y="3183"/>
                  </a:lnTo>
                  <a:lnTo>
                    <a:pt x="842" y="3779"/>
                  </a:lnTo>
                  <a:lnTo>
                    <a:pt x="1177" y="4458"/>
                  </a:lnTo>
                  <a:lnTo>
                    <a:pt x="1516" y="5053"/>
                  </a:lnTo>
                  <a:lnTo>
                    <a:pt x="1803" y="5648"/>
                  </a:lnTo>
                  <a:lnTo>
                    <a:pt x="2143" y="6363"/>
                  </a:lnTo>
                  <a:lnTo>
                    <a:pt x="2429" y="7277"/>
                  </a:lnTo>
                  <a:lnTo>
                    <a:pt x="2623" y="8070"/>
                  </a:lnTo>
                  <a:lnTo>
                    <a:pt x="2817" y="9062"/>
                  </a:lnTo>
                  <a:lnTo>
                    <a:pt x="2910" y="10134"/>
                  </a:lnTo>
                  <a:lnTo>
                    <a:pt x="3055" y="11087"/>
                  </a:lnTo>
                  <a:lnTo>
                    <a:pt x="3055" y="11602"/>
                  </a:lnTo>
                  <a:lnTo>
                    <a:pt x="3055" y="12286"/>
                  </a:lnTo>
                  <a:lnTo>
                    <a:pt x="3055" y="12723"/>
                  </a:lnTo>
                  <a:lnTo>
                    <a:pt x="3016" y="13133"/>
                  </a:lnTo>
                  <a:lnTo>
                    <a:pt x="2861" y="13556"/>
                  </a:lnTo>
                  <a:lnTo>
                    <a:pt x="2760" y="13807"/>
                  </a:lnTo>
                  <a:lnTo>
                    <a:pt x="2623" y="14032"/>
                  </a:lnTo>
                  <a:lnTo>
                    <a:pt x="2487" y="14178"/>
                  </a:lnTo>
                  <a:lnTo>
                    <a:pt x="2390" y="14262"/>
                  </a:lnTo>
                  <a:lnTo>
                    <a:pt x="2284" y="14350"/>
                  </a:lnTo>
                  <a:lnTo>
                    <a:pt x="3699" y="14222"/>
                  </a:lnTo>
                  <a:lnTo>
                    <a:pt x="6433" y="13913"/>
                  </a:lnTo>
                  <a:lnTo>
                    <a:pt x="8696" y="13675"/>
                  </a:lnTo>
                  <a:lnTo>
                    <a:pt x="11294" y="13437"/>
                  </a:lnTo>
                  <a:lnTo>
                    <a:pt x="13230" y="13358"/>
                  </a:lnTo>
                  <a:lnTo>
                    <a:pt x="14720" y="13397"/>
                  </a:lnTo>
                  <a:lnTo>
                    <a:pt x="15104" y="13397"/>
                  </a:lnTo>
                  <a:lnTo>
                    <a:pt x="15346" y="13358"/>
                  </a:lnTo>
                  <a:lnTo>
                    <a:pt x="15492" y="13159"/>
                  </a:lnTo>
                  <a:lnTo>
                    <a:pt x="15633" y="12939"/>
                  </a:lnTo>
                  <a:lnTo>
                    <a:pt x="15756" y="12617"/>
                  </a:lnTo>
                  <a:lnTo>
                    <a:pt x="15827" y="12224"/>
                  </a:lnTo>
                  <a:lnTo>
                    <a:pt x="15876" y="11849"/>
                  </a:lnTo>
                  <a:lnTo>
                    <a:pt x="15876" y="11298"/>
                  </a:lnTo>
                  <a:lnTo>
                    <a:pt x="15853" y="10870"/>
                  </a:lnTo>
                  <a:lnTo>
                    <a:pt x="15827" y="10174"/>
                  </a:lnTo>
                  <a:lnTo>
                    <a:pt x="15681" y="9420"/>
                  </a:lnTo>
                  <a:lnTo>
                    <a:pt x="15443" y="8450"/>
                  </a:lnTo>
                  <a:lnTo>
                    <a:pt x="15152" y="7554"/>
                  </a:lnTo>
                  <a:lnTo>
                    <a:pt x="14914" y="6760"/>
                  </a:lnTo>
                  <a:lnTo>
                    <a:pt x="14526" y="5886"/>
                  </a:lnTo>
                  <a:lnTo>
                    <a:pt x="14142" y="5093"/>
                  </a:lnTo>
                  <a:lnTo>
                    <a:pt x="13807" y="4339"/>
                  </a:lnTo>
                  <a:lnTo>
                    <a:pt x="13278" y="3263"/>
                  </a:lnTo>
                  <a:lnTo>
                    <a:pt x="12987" y="2628"/>
                  </a:lnTo>
                  <a:lnTo>
                    <a:pt x="12811" y="2204"/>
                  </a:lnTo>
                  <a:lnTo>
                    <a:pt x="12714" y="1874"/>
                  </a:lnTo>
                  <a:lnTo>
                    <a:pt x="12674" y="1561"/>
                  </a:lnTo>
                  <a:lnTo>
                    <a:pt x="12674" y="1292"/>
                  </a:lnTo>
                  <a:lnTo>
                    <a:pt x="12890" y="326"/>
                  </a:lnTo>
                  <a:lnTo>
                    <a:pt x="12987" y="127"/>
                  </a:lnTo>
                  <a:lnTo>
                    <a:pt x="1155" y="0"/>
                  </a:lnTo>
                  <a:lnTo>
                    <a:pt x="1001" y="2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62240" y="1569960"/>
              <a:ext cx="471960" cy="338400"/>
            </a:xfrm>
            <a:custGeom>
              <a:avLst/>
              <a:gdLst/>
              <a:ahLst/>
              <a:rect l="0" t="0" r="r" b="b"/>
              <a:pathLst>
                <a:path w="1311" h="940">
                  <a:moveTo>
                    <a:pt x="1311" y="66"/>
                  </a:moveTo>
                  <a:lnTo>
                    <a:pt x="971" y="860"/>
                  </a:lnTo>
                  <a:lnTo>
                    <a:pt x="636" y="940"/>
                  </a:lnTo>
                  <a:lnTo>
                    <a:pt x="468" y="927"/>
                  </a:lnTo>
                  <a:lnTo>
                    <a:pt x="295" y="874"/>
                  </a:lnTo>
                  <a:lnTo>
                    <a:pt x="167" y="781"/>
                  </a:lnTo>
                  <a:lnTo>
                    <a:pt x="79" y="688"/>
                  </a:lnTo>
                  <a:lnTo>
                    <a:pt x="22" y="569"/>
                  </a:lnTo>
                  <a:lnTo>
                    <a:pt x="0" y="463"/>
                  </a:lnTo>
                  <a:lnTo>
                    <a:pt x="8" y="326"/>
                  </a:lnTo>
                  <a:lnTo>
                    <a:pt x="57" y="224"/>
                  </a:lnTo>
                  <a:lnTo>
                    <a:pt x="154" y="145"/>
                  </a:lnTo>
                  <a:lnTo>
                    <a:pt x="273" y="79"/>
                  </a:lnTo>
                  <a:lnTo>
                    <a:pt x="419" y="48"/>
                  </a:lnTo>
                  <a:lnTo>
                    <a:pt x="538" y="26"/>
                  </a:lnTo>
                  <a:lnTo>
                    <a:pt x="675" y="8"/>
                  </a:lnTo>
                  <a:lnTo>
                    <a:pt x="781" y="8"/>
                  </a:lnTo>
                  <a:lnTo>
                    <a:pt x="918" y="0"/>
                  </a:lnTo>
                  <a:lnTo>
                    <a:pt x="1311" y="6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46200" y="1550880"/>
              <a:ext cx="327240" cy="276480"/>
            </a:xfrm>
            <a:custGeom>
              <a:avLst/>
              <a:gdLst/>
              <a:ahLst/>
              <a:rect l="0" t="0" r="r" b="b"/>
              <a:pathLst>
                <a:path w="909" h="768">
                  <a:moveTo>
                    <a:pt x="0" y="92"/>
                  </a:moveTo>
                  <a:lnTo>
                    <a:pt x="167" y="194"/>
                  </a:lnTo>
                  <a:lnTo>
                    <a:pt x="246" y="291"/>
                  </a:lnTo>
                  <a:lnTo>
                    <a:pt x="286" y="393"/>
                  </a:lnTo>
                  <a:lnTo>
                    <a:pt x="295" y="538"/>
                  </a:lnTo>
                  <a:lnTo>
                    <a:pt x="264" y="658"/>
                  </a:lnTo>
                  <a:lnTo>
                    <a:pt x="167" y="768"/>
                  </a:lnTo>
                  <a:lnTo>
                    <a:pt x="909" y="636"/>
                  </a:lnTo>
                  <a:lnTo>
                    <a:pt x="847" y="0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52600" y="1336680"/>
              <a:ext cx="4783320" cy="572040"/>
            </a:xfrm>
            <a:custGeom>
              <a:avLst/>
              <a:gdLst/>
              <a:ahLst/>
              <a:rect l="0" t="0" r="r" b="b"/>
              <a:pathLst>
                <a:path w="13287" h="1589">
                  <a:moveTo>
                    <a:pt x="12573" y="119"/>
                  </a:moveTo>
                  <a:lnTo>
                    <a:pt x="0" y="0"/>
                  </a:lnTo>
                  <a:lnTo>
                    <a:pt x="352" y="48"/>
                  </a:lnTo>
                  <a:lnTo>
                    <a:pt x="480" y="79"/>
                  </a:lnTo>
                  <a:lnTo>
                    <a:pt x="617" y="127"/>
                  </a:lnTo>
                  <a:lnTo>
                    <a:pt x="705" y="198"/>
                  </a:lnTo>
                  <a:lnTo>
                    <a:pt x="811" y="304"/>
                  </a:lnTo>
                  <a:lnTo>
                    <a:pt x="859" y="433"/>
                  </a:lnTo>
                  <a:lnTo>
                    <a:pt x="890" y="565"/>
                  </a:lnTo>
                  <a:lnTo>
                    <a:pt x="903" y="697"/>
                  </a:lnTo>
                  <a:lnTo>
                    <a:pt x="912" y="807"/>
                  </a:lnTo>
                  <a:lnTo>
                    <a:pt x="890" y="975"/>
                  </a:lnTo>
                  <a:lnTo>
                    <a:pt x="859" y="1134"/>
                  </a:lnTo>
                  <a:lnTo>
                    <a:pt x="771" y="1272"/>
                  </a:lnTo>
                  <a:lnTo>
                    <a:pt x="635" y="1413"/>
                  </a:lnTo>
                  <a:lnTo>
                    <a:pt x="463" y="1505"/>
                  </a:lnTo>
                  <a:lnTo>
                    <a:pt x="330" y="1589"/>
                  </a:lnTo>
                  <a:lnTo>
                    <a:pt x="1155" y="1510"/>
                  </a:lnTo>
                  <a:lnTo>
                    <a:pt x="2068" y="1391"/>
                  </a:lnTo>
                  <a:lnTo>
                    <a:pt x="3518" y="1311"/>
                  </a:lnTo>
                  <a:lnTo>
                    <a:pt x="4722" y="1232"/>
                  </a:lnTo>
                  <a:lnTo>
                    <a:pt x="6164" y="1232"/>
                  </a:lnTo>
                  <a:lnTo>
                    <a:pt x="7753" y="1272"/>
                  </a:lnTo>
                  <a:lnTo>
                    <a:pt x="9728" y="1311"/>
                  </a:lnTo>
                  <a:lnTo>
                    <a:pt x="11611" y="1430"/>
                  </a:lnTo>
                  <a:lnTo>
                    <a:pt x="12383" y="1549"/>
                  </a:lnTo>
                  <a:lnTo>
                    <a:pt x="12599" y="1576"/>
                  </a:lnTo>
                  <a:lnTo>
                    <a:pt x="12837" y="1585"/>
                  </a:lnTo>
                  <a:lnTo>
                    <a:pt x="13005" y="1549"/>
                  </a:lnTo>
                  <a:lnTo>
                    <a:pt x="13150" y="1430"/>
                  </a:lnTo>
                  <a:lnTo>
                    <a:pt x="13230" y="1285"/>
                  </a:lnTo>
                  <a:lnTo>
                    <a:pt x="13269" y="1160"/>
                  </a:lnTo>
                  <a:lnTo>
                    <a:pt x="13287" y="1019"/>
                  </a:lnTo>
                  <a:lnTo>
                    <a:pt x="13256" y="768"/>
                  </a:lnTo>
                  <a:lnTo>
                    <a:pt x="13190" y="609"/>
                  </a:lnTo>
                  <a:lnTo>
                    <a:pt x="13093" y="446"/>
                  </a:lnTo>
                  <a:lnTo>
                    <a:pt x="13005" y="339"/>
                  </a:lnTo>
                  <a:lnTo>
                    <a:pt x="12903" y="251"/>
                  </a:lnTo>
                  <a:lnTo>
                    <a:pt x="12749" y="167"/>
                  </a:lnTo>
                  <a:lnTo>
                    <a:pt x="12573" y="119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2536920" y="1474920"/>
            <a:ext cx="41418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асть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Маркет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ационных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14880" y="3162240"/>
            <a:ext cx="382896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Каналы 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Ключевые факторы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дготовка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редставлени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09680" y="1143000"/>
            <a:ext cx="5105520" cy="99072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274920" y="1481040"/>
            <a:ext cx="360216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НАЛЫ  МАРКЕТИН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14800" y="2362320"/>
            <a:ext cx="4343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ичные 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убл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еминары и рабочи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фессиональные ассоц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Местные средств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веты на консультационные  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74640" y="2724120"/>
            <a:ext cx="3135240" cy="28954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7099200" y="685800"/>
            <a:ext cx="1714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09480" y="2590920"/>
            <a:ext cx="7848720" cy="3314880"/>
          </a:xfrm>
          <a:prstGeom prst="rect">
            <a:avLst/>
          </a:prstGeom>
          <a:solidFill>
            <a:srgbClr val="ededed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752480"/>
            <a:ext cx="7849080" cy="838440"/>
          </a:xfrm>
          <a:custGeom>
            <a:avLst/>
            <a:gdLst/>
            <a:ahLst/>
            <a:rect l="0" t="0" r="r" b="b"/>
            <a:pathLst>
              <a:path w="21803" h="2329">
                <a:moveTo>
                  <a:pt x="0" y="2329"/>
                </a:moveTo>
                <a:lnTo>
                  <a:pt x="21803" y="2329"/>
                </a:lnTo>
                <a:lnTo>
                  <a:pt x="10901" y="0"/>
                </a:lnTo>
                <a:lnTo>
                  <a:pt x="0" y="2329"/>
                </a:lnTo>
                <a:close/>
              </a:path>
            </a:pathLst>
          </a:custGeom>
          <a:solidFill>
            <a:srgbClr val="fafd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19040" y="1233360"/>
            <a:ext cx="861048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готовка к реализации консультационных услуг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60240" y="2647800"/>
            <a:ext cx="78487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следование слабых сторо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енциального кл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ку тенденц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я, возможностей и угроз внутри отра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ку способн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енциального клиента действовать в сложившихся отраслев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у методов трансформ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ей клиента в спрос на консультационные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альтернативных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ариантов опла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ля пере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099200" y="685800"/>
            <a:ext cx="1714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927000" y="1314360"/>
            <a:ext cx="3919680" cy="45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дежная связь с клие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ехническая компете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еспечение конфиден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бедительное построение предложенного за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ответствующая заданию способность принести 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оступность необходимых для задания информации и ее источ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твержденная профессиональная репу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81d58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пециальный 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10400" y="1504800"/>
            <a:ext cx="3009960" cy="2762280"/>
          </a:xfrm>
          <a:prstGeom prst="ellipse">
            <a:avLst/>
          </a:prstGeom>
          <a:solidFill>
            <a:srgbClr val="fafd00"/>
          </a:solidFill>
          <a:ln w="38160">
            <a:solidFill>
              <a:srgbClr val="3f000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543640" y="2705040"/>
            <a:ext cx="3581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лючевые факторы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4960" y="3276720"/>
            <a:ext cx="816480" cy="308520"/>
          </a:xfrm>
          <a:custGeom>
            <a:avLst/>
            <a:gdLst/>
            <a:ahLst/>
            <a:rect l="0" t="0" r="r" b="b"/>
            <a:pathLst>
              <a:path w="2268" h="857">
                <a:moveTo>
                  <a:pt x="2209" y="0"/>
                </a:moveTo>
                <a:lnTo>
                  <a:pt x="2268" y="203"/>
                </a:lnTo>
                <a:lnTo>
                  <a:pt x="700" y="653"/>
                </a:lnTo>
                <a:lnTo>
                  <a:pt x="758" y="857"/>
                </a:lnTo>
                <a:lnTo>
                  <a:pt x="0" y="744"/>
                </a:lnTo>
                <a:lnTo>
                  <a:pt x="583" y="245"/>
                </a:lnTo>
                <a:lnTo>
                  <a:pt x="642" y="450"/>
                </a:lnTo>
                <a:lnTo>
                  <a:pt x="2209" y="0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8160" y="2446560"/>
            <a:ext cx="830520" cy="261720"/>
          </a:xfrm>
          <a:custGeom>
            <a:avLst/>
            <a:gdLst/>
            <a:ahLst/>
            <a:rect l="0" t="0" r="r" b="b"/>
            <a:pathLst>
              <a:path w="2307" h="727">
                <a:moveTo>
                  <a:pt x="2307" y="519"/>
                </a:moveTo>
                <a:lnTo>
                  <a:pt x="2267" y="727"/>
                </a:lnTo>
                <a:lnTo>
                  <a:pt x="666" y="416"/>
                </a:lnTo>
                <a:lnTo>
                  <a:pt x="626" y="624"/>
                </a:lnTo>
                <a:lnTo>
                  <a:pt x="0" y="178"/>
                </a:lnTo>
                <a:lnTo>
                  <a:pt x="747" y="0"/>
                </a:lnTo>
                <a:lnTo>
                  <a:pt x="706" y="207"/>
                </a:lnTo>
                <a:lnTo>
                  <a:pt x="2307" y="519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98600" y="3585600"/>
            <a:ext cx="764280" cy="415080"/>
          </a:xfrm>
          <a:custGeom>
            <a:avLst/>
            <a:gdLst/>
            <a:ahLst/>
            <a:rect l="0" t="0" r="r" b="b"/>
            <a:pathLst>
              <a:path w="2123" h="1153">
                <a:moveTo>
                  <a:pt x="2027" y="0"/>
                </a:moveTo>
                <a:lnTo>
                  <a:pt x="2123" y="188"/>
                </a:lnTo>
                <a:lnTo>
                  <a:pt x="670" y="930"/>
                </a:lnTo>
                <a:lnTo>
                  <a:pt x="766" y="1119"/>
                </a:lnTo>
                <a:lnTo>
                  <a:pt x="0" y="1153"/>
                </a:lnTo>
                <a:lnTo>
                  <a:pt x="478" y="552"/>
                </a:lnTo>
                <a:lnTo>
                  <a:pt x="574" y="740"/>
                </a:lnTo>
                <a:lnTo>
                  <a:pt x="2027" y="0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79760" y="3835080"/>
            <a:ext cx="666720" cy="568440"/>
          </a:xfrm>
          <a:custGeom>
            <a:avLst/>
            <a:gdLst/>
            <a:ahLst/>
            <a:rect l="0" t="0" r="r" b="b"/>
            <a:pathLst>
              <a:path w="1852" h="1579">
                <a:moveTo>
                  <a:pt x="1716" y="0"/>
                </a:moveTo>
                <a:lnTo>
                  <a:pt x="1852" y="161"/>
                </a:lnTo>
                <a:lnTo>
                  <a:pt x="602" y="1211"/>
                </a:lnTo>
                <a:lnTo>
                  <a:pt x="739" y="1374"/>
                </a:lnTo>
                <a:lnTo>
                  <a:pt x="0" y="1579"/>
                </a:lnTo>
                <a:lnTo>
                  <a:pt x="330" y="886"/>
                </a:lnTo>
                <a:lnTo>
                  <a:pt x="466" y="1048"/>
                </a:lnTo>
                <a:lnTo>
                  <a:pt x="1716" y="0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92600" y="4040280"/>
            <a:ext cx="578880" cy="658080"/>
          </a:xfrm>
          <a:custGeom>
            <a:avLst/>
            <a:gdLst/>
            <a:ahLst/>
            <a:rect l="0" t="0" r="r" b="b"/>
            <a:pathLst>
              <a:path w="1608" h="1828">
                <a:moveTo>
                  <a:pt x="1448" y="0"/>
                </a:moveTo>
                <a:lnTo>
                  <a:pt x="1608" y="138"/>
                </a:lnTo>
                <a:lnTo>
                  <a:pt x="537" y="1369"/>
                </a:lnTo>
                <a:lnTo>
                  <a:pt x="697" y="1509"/>
                </a:lnTo>
                <a:lnTo>
                  <a:pt x="0" y="1828"/>
                </a:lnTo>
                <a:lnTo>
                  <a:pt x="218" y="1092"/>
                </a:lnTo>
                <a:lnTo>
                  <a:pt x="378" y="1231"/>
                </a:lnTo>
                <a:lnTo>
                  <a:pt x="1448" y="0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68440" y="1708920"/>
            <a:ext cx="776160" cy="389160"/>
          </a:xfrm>
          <a:custGeom>
            <a:avLst/>
            <a:gdLst/>
            <a:ahLst/>
            <a:rect l="0" t="0" r="r" b="b"/>
            <a:pathLst>
              <a:path w="2156" h="1081">
                <a:moveTo>
                  <a:pt x="2156" y="889"/>
                </a:moveTo>
                <a:lnTo>
                  <a:pt x="2066" y="1081"/>
                </a:lnTo>
                <a:lnTo>
                  <a:pt x="588" y="391"/>
                </a:lnTo>
                <a:lnTo>
                  <a:pt x="498" y="583"/>
                </a:lnTo>
                <a:lnTo>
                  <a:pt x="0" y="0"/>
                </a:lnTo>
                <a:lnTo>
                  <a:pt x="767" y="7"/>
                </a:lnTo>
                <a:lnTo>
                  <a:pt x="677" y="199"/>
                </a:lnTo>
                <a:lnTo>
                  <a:pt x="2156" y="889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2200" y="2072880"/>
            <a:ext cx="816480" cy="308520"/>
          </a:xfrm>
          <a:custGeom>
            <a:avLst/>
            <a:gdLst/>
            <a:ahLst/>
            <a:rect l="0" t="0" r="r" b="b"/>
            <a:pathLst>
              <a:path w="2268" h="857">
                <a:moveTo>
                  <a:pt x="2268" y="654"/>
                </a:moveTo>
                <a:lnTo>
                  <a:pt x="2210" y="857"/>
                </a:lnTo>
                <a:lnTo>
                  <a:pt x="642" y="407"/>
                </a:lnTo>
                <a:lnTo>
                  <a:pt x="583" y="611"/>
                </a:lnTo>
                <a:lnTo>
                  <a:pt x="0" y="112"/>
                </a:lnTo>
                <a:lnTo>
                  <a:pt x="758" y="0"/>
                </a:lnTo>
                <a:lnTo>
                  <a:pt x="700" y="203"/>
                </a:lnTo>
                <a:lnTo>
                  <a:pt x="2268" y="654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62440" y="2854440"/>
            <a:ext cx="839160" cy="228960"/>
          </a:xfrm>
          <a:custGeom>
            <a:avLst/>
            <a:gdLst/>
            <a:ahLst/>
            <a:rect l="0" t="0" r="r" b="b"/>
            <a:pathLst>
              <a:path w="2331" h="636">
                <a:moveTo>
                  <a:pt x="2331" y="240"/>
                </a:moveTo>
                <a:lnTo>
                  <a:pt x="2328" y="452"/>
                </a:lnTo>
                <a:lnTo>
                  <a:pt x="697" y="423"/>
                </a:lnTo>
                <a:lnTo>
                  <a:pt x="693" y="636"/>
                </a:lnTo>
                <a:lnTo>
                  <a:pt x="0" y="306"/>
                </a:lnTo>
                <a:lnTo>
                  <a:pt x="704" y="0"/>
                </a:lnTo>
                <a:lnTo>
                  <a:pt x="701" y="212"/>
                </a:lnTo>
                <a:lnTo>
                  <a:pt x="2331" y="240"/>
                </a:lnTo>
                <a:close/>
              </a:path>
            </a:pathLst>
          </a:cu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099200" y="685800"/>
            <a:ext cx="1714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7056360" y="695160"/>
            <a:ext cx="1479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2057400"/>
            <a:ext cx="305280" cy="3657960"/>
          </a:xfrm>
          <a:custGeom>
            <a:avLst/>
            <a:gdLst/>
            <a:ahLst/>
            <a:rect l="0" t="0" r="r" b="b"/>
            <a:pathLst>
              <a:path w="848" h="10161">
                <a:moveTo>
                  <a:pt x="0" y="0"/>
                </a:moveTo>
                <a:lnTo>
                  <a:pt x="848" y="846"/>
                </a:lnTo>
                <a:lnTo>
                  <a:pt x="848" y="9314"/>
                </a:lnTo>
                <a:lnTo>
                  <a:pt x="0" y="10161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057400"/>
            <a:ext cx="305280" cy="3657960"/>
          </a:xfrm>
          <a:custGeom>
            <a:avLst/>
            <a:gdLst/>
            <a:ahLst/>
            <a:rect l="0" t="0" r="r" b="b"/>
            <a:pathLst>
              <a:path w="848" h="10161">
                <a:moveTo>
                  <a:pt x="848" y="0"/>
                </a:moveTo>
                <a:lnTo>
                  <a:pt x="0" y="846"/>
                </a:lnTo>
                <a:lnTo>
                  <a:pt x="0" y="9314"/>
                </a:lnTo>
                <a:lnTo>
                  <a:pt x="848" y="10161"/>
                </a:lnTo>
                <a:lnTo>
                  <a:pt x="848" y="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74880" y="1139760"/>
            <a:ext cx="70423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лючевые принципы предложения и продажи услуг и продук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47920" y="2362320"/>
            <a:ext cx="1981080" cy="3057480"/>
          </a:xfrm>
          <a:prstGeom prst="rect">
            <a:avLst/>
          </a:pr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учас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360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редоточьте внимание на Ваших клиентах и их потребностях, а не на себе или на Ваших продуктах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360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слуг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360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сознайте проблемы клиента и причины их акт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2057400"/>
            <a:ext cx="2286360" cy="305280"/>
          </a:xfrm>
          <a:custGeom>
            <a:avLst/>
            <a:gdLst/>
            <a:ahLst/>
            <a:rect l="0" t="0" r="r" b="b"/>
            <a:pathLst>
              <a:path w="6351" h="848">
                <a:moveTo>
                  <a:pt x="0" y="848"/>
                </a:moveTo>
                <a:lnTo>
                  <a:pt x="846" y="0"/>
                </a:lnTo>
                <a:lnTo>
                  <a:pt x="6351" y="0"/>
                </a:lnTo>
                <a:lnTo>
                  <a:pt x="5504" y="848"/>
                </a:lnTo>
                <a:lnTo>
                  <a:pt x="0" y="848"/>
                </a:lnTo>
                <a:close/>
              </a:path>
            </a:pathLst>
          </a:cu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2057400"/>
            <a:ext cx="2286360" cy="305280"/>
          </a:xfrm>
          <a:custGeom>
            <a:avLst/>
            <a:gdLst/>
            <a:ahLst/>
            <a:rect l="0" t="0" r="r" b="b"/>
            <a:pathLst>
              <a:path w="6351" h="848">
                <a:moveTo>
                  <a:pt x="6351" y="848"/>
                </a:moveTo>
                <a:lnTo>
                  <a:pt x="5505" y="0"/>
                </a:lnTo>
                <a:lnTo>
                  <a:pt x="0" y="0"/>
                </a:lnTo>
                <a:lnTo>
                  <a:pt x="846" y="848"/>
                </a:lnTo>
                <a:lnTo>
                  <a:pt x="6351" y="848"/>
                </a:lnTo>
                <a:close/>
              </a:path>
            </a:pathLst>
          </a:cu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2057400"/>
            <a:ext cx="1981440" cy="305280"/>
          </a:xfrm>
          <a:custGeom>
            <a:avLst/>
            <a:gdLst/>
            <a:ahLst/>
            <a:rect l="0" t="0" r="r" b="b"/>
            <a:pathLst>
              <a:path w="5504" h="848">
                <a:moveTo>
                  <a:pt x="0" y="848"/>
                </a:moveTo>
                <a:lnTo>
                  <a:pt x="846" y="0"/>
                </a:lnTo>
                <a:lnTo>
                  <a:pt x="4657" y="0"/>
                </a:lnTo>
                <a:lnTo>
                  <a:pt x="5504" y="848"/>
                </a:lnTo>
                <a:lnTo>
                  <a:pt x="0" y="848"/>
                </a:lnTo>
                <a:close/>
              </a:path>
            </a:pathLst>
          </a:cu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5410080"/>
            <a:ext cx="2286360" cy="305280"/>
          </a:xfrm>
          <a:custGeom>
            <a:avLst/>
            <a:gdLst/>
            <a:ahLst/>
            <a:rect l="0" t="0" r="r" b="b"/>
            <a:pathLst>
              <a:path w="6351" h="848">
                <a:moveTo>
                  <a:pt x="6351" y="848"/>
                </a:moveTo>
                <a:lnTo>
                  <a:pt x="5504" y="0"/>
                </a:lnTo>
                <a:lnTo>
                  <a:pt x="0" y="0"/>
                </a:lnTo>
                <a:lnTo>
                  <a:pt x="846" y="848"/>
                </a:lnTo>
                <a:lnTo>
                  <a:pt x="6351" y="848"/>
                </a:lnTo>
                <a:close/>
              </a:path>
            </a:pathLst>
          </a:cu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10080" y="5410080"/>
            <a:ext cx="2286360" cy="305280"/>
          </a:xfrm>
          <a:custGeom>
            <a:avLst/>
            <a:gdLst/>
            <a:ahLst/>
            <a:rect l="0" t="0" r="r" b="b"/>
            <a:pathLst>
              <a:path w="6351" h="848">
                <a:moveTo>
                  <a:pt x="0" y="848"/>
                </a:moveTo>
                <a:lnTo>
                  <a:pt x="846" y="0"/>
                </a:lnTo>
                <a:lnTo>
                  <a:pt x="6351" y="0"/>
                </a:lnTo>
                <a:lnTo>
                  <a:pt x="5505" y="848"/>
                </a:lnTo>
                <a:lnTo>
                  <a:pt x="0" y="848"/>
                </a:lnTo>
                <a:close/>
              </a:path>
            </a:pathLst>
          </a:cu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81280" y="5410080"/>
            <a:ext cx="1981440" cy="305280"/>
          </a:xfrm>
          <a:custGeom>
            <a:avLst/>
            <a:gdLst/>
            <a:ahLst/>
            <a:rect l="0" t="0" r="r" b="b"/>
            <a:pathLst>
              <a:path w="5504" h="848">
                <a:moveTo>
                  <a:pt x="0" y="0"/>
                </a:moveTo>
                <a:lnTo>
                  <a:pt x="846" y="848"/>
                </a:lnTo>
                <a:lnTo>
                  <a:pt x="4657" y="848"/>
                </a:lnTo>
                <a:lnTo>
                  <a:pt x="5504" y="0"/>
                </a:lnTo>
                <a:lnTo>
                  <a:pt x="0" y="0"/>
                </a:lnTo>
                <a:close/>
              </a:path>
            </a:pathLst>
          </a:cu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581280" y="2362320"/>
            <a:ext cx="2104920" cy="3048120"/>
          </a:xfrm>
          <a:prstGeom prst="rect">
            <a:avLst/>
          </a:pr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ъ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удьте искренни и чест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360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 надо притворяться, если что-то не зн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360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 прибегайте к обману или преувели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715000" y="2362320"/>
            <a:ext cx="2143080" cy="3048120"/>
          </a:xfrm>
          <a:prstGeom prst="rect">
            <a:avLst/>
          </a:prstGeom>
          <a:solidFill>
            <a:srgbClr val="a2ffa3"/>
          </a:solidFill>
          <a:ln w="12600">
            <a:solidFill>
              <a:srgbClr val="00ae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ледует знать, каким образом продукты/услуги удовлетворяют потребности кли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360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ледует понимать, каким образом они решают проблемы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2040" y="1233360"/>
            <a:ext cx="7848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ипы консультационных 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63640" y="186696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дукты могут представлять собой конкретный вклад в деятельность предприятия: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инансовая оценка операций комп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модернизация системы финансовой отчетности в соответствии с внутренними потребностями фирмы и международными стандар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инансовое или бухгалтерское программное обеспе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обретение, внедрение/установка новых технологий или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маркетинговое исследование или анализ ры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правленческие информацио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41880" y="682560"/>
            <a:ext cx="2905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Что такое консультирова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32040" y="1233360"/>
            <a:ext cx="78487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адачи общения с потенциальным клиен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98560" y="2057400"/>
            <a:ext cx="784872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нять, что воспринимается клиентом в качестве проблемы пу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ерпеливого выслушивания кли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нимания “внутренней политики”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ставить консультантов как эрудированных, опытных, целеустремленных, дисциплинированных и преданных делу работников пу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монстрации знания отрас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каза от непроверенных суждений о том, как “привести в порядок” воспринимаемы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094520" y="682560"/>
            <a:ext cx="1479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638520" y="2013120"/>
            <a:ext cx="2666880" cy="444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95400" y="985680"/>
            <a:ext cx="7915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то необходимо сделать до встречи с клиентом и подготовки коммерческого предложения по консультиров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38240" y="1511280"/>
            <a:ext cx="19494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гот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 консультировани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575160" y="1574640"/>
            <a:ext cx="373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ятельность до оформления предлож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584520" y="2092320"/>
            <a:ext cx="27781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тавьте предварительно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аключение о клиен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сознайте его потребности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ите фактографическое из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анализируйт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ыдущую работу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здайте коман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берите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готовьте финансовую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окументацию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еделите ожид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314880"/>
            <a:ext cx="2134080" cy="1886400"/>
          </a:xfrm>
          <a:custGeom>
            <a:avLst/>
            <a:gdLst/>
            <a:ahLst/>
            <a:rect l="0" t="0" r="r" b="b"/>
            <a:pathLst>
              <a:path w="5928" h="5240">
                <a:moveTo>
                  <a:pt x="2964" y="5240"/>
                </a:moveTo>
                <a:lnTo>
                  <a:pt x="5928" y="2620"/>
                </a:lnTo>
                <a:lnTo>
                  <a:pt x="2964" y="0"/>
                </a:lnTo>
                <a:lnTo>
                  <a:pt x="0" y="2620"/>
                </a:lnTo>
                <a:lnTo>
                  <a:pt x="2964" y="524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3d1fc"/>
              </a:gs>
              <a:gs pos="100000">
                <a:srgbClr val="000000"/>
              </a:gs>
            </a:gsLst>
            <a:lin ang="8100000"/>
          </a:gradFill>
          <a:ln w="25560">
            <a:solidFill>
              <a:srgbClr val="081d5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156440" y="4124160"/>
            <a:ext cx="16318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723960" y="1987560"/>
            <a:ext cx="2451240" cy="2343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704880" y="4121280"/>
            <a:ext cx="2451240" cy="2317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993600" y="2290680"/>
            <a:ext cx="2030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6e0043"/>
                </a:solidFill>
                <a:latin typeface="Times New Roman Cyr"/>
                <a:ea typeface="Times New Roman Cyr"/>
              </a:rPr>
              <a:t>Знание Ваше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52560" y="2952720"/>
            <a:ext cx="20620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6e0043"/>
                </a:solidFill>
                <a:latin typeface="Times New Roman Cyr"/>
                <a:ea typeface="Times New Roman Cyr"/>
              </a:rPr>
              <a:t>Основ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19120" y="3722760"/>
            <a:ext cx="1068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6e0043"/>
                </a:solidFill>
                <a:latin typeface="Times New Roman Cyr"/>
                <a:ea typeface="Times New Roman Cyr"/>
              </a:rPr>
              <a:t>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68360" y="4376880"/>
            <a:ext cx="12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Times New Roman Cyr"/>
                <a:ea typeface="Times New Roman Cyr"/>
              </a:rPr>
              <a:t>Маркет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89000" y="5037120"/>
            <a:ext cx="1819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6e0043"/>
                </a:solidFill>
                <a:latin typeface="Times New Roman Cyr"/>
                <a:ea typeface="Times New Roman Cyr"/>
              </a:rPr>
              <a:t>Ориентиры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309680" y="5735520"/>
            <a:ext cx="1278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Times New Roman Cyr"/>
                <a:ea typeface="Times New Roman Cyr"/>
              </a:rPr>
              <a:t>Выя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Times New Roman Cyr"/>
                <a:ea typeface="Times New Roman Cyr"/>
              </a:rPr>
              <a:t>кли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72160" y="4038480"/>
            <a:ext cx="419400" cy="476640"/>
          </a:xfrm>
          <a:custGeom>
            <a:avLst/>
            <a:gdLst/>
            <a:ahLst/>
            <a:rect l="0" t="0" r="r" b="b"/>
            <a:pathLst>
              <a:path w="1165" h="1324">
                <a:moveTo>
                  <a:pt x="0" y="441"/>
                </a:moveTo>
                <a:lnTo>
                  <a:pt x="0" y="882"/>
                </a:lnTo>
                <a:lnTo>
                  <a:pt x="815" y="882"/>
                </a:lnTo>
                <a:lnTo>
                  <a:pt x="815" y="1324"/>
                </a:lnTo>
                <a:lnTo>
                  <a:pt x="1165" y="662"/>
                </a:lnTo>
                <a:lnTo>
                  <a:pt x="815" y="0"/>
                </a:lnTo>
                <a:lnTo>
                  <a:pt x="815" y="441"/>
                </a:lnTo>
                <a:lnTo>
                  <a:pt x="0" y="4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00800" y="3981600"/>
            <a:ext cx="495720" cy="590760"/>
          </a:xfrm>
          <a:custGeom>
            <a:avLst/>
            <a:gdLst/>
            <a:ahLst/>
            <a:rect l="0" t="0" r="r" b="b"/>
            <a:pathLst>
              <a:path w="1377" h="1641">
                <a:moveTo>
                  <a:pt x="0" y="546"/>
                </a:moveTo>
                <a:lnTo>
                  <a:pt x="0" y="1093"/>
                </a:lnTo>
                <a:lnTo>
                  <a:pt x="964" y="1093"/>
                </a:lnTo>
                <a:lnTo>
                  <a:pt x="964" y="1641"/>
                </a:lnTo>
                <a:lnTo>
                  <a:pt x="1377" y="820"/>
                </a:lnTo>
                <a:lnTo>
                  <a:pt x="964" y="0"/>
                </a:lnTo>
                <a:lnTo>
                  <a:pt x="964" y="546"/>
                </a:lnTo>
                <a:lnTo>
                  <a:pt x="0" y="546"/>
                </a:lnTo>
                <a:close/>
              </a:path>
            </a:pathLst>
          </a:custGeom>
          <a:solidFill>
            <a:srgbClr val="64568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85920" y="1689120"/>
            <a:ext cx="444960" cy="203400"/>
          </a:xfrm>
          <a:custGeom>
            <a:avLst/>
            <a:gdLst/>
            <a:ahLst/>
            <a:rect l="0" t="0" r="r" b="b"/>
            <a:pathLst>
              <a:path w="1236" h="565">
                <a:moveTo>
                  <a:pt x="0" y="187"/>
                </a:moveTo>
                <a:lnTo>
                  <a:pt x="0" y="376"/>
                </a:lnTo>
                <a:lnTo>
                  <a:pt x="865" y="376"/>
                </a:lnTo>
                <a:lnTo>
                  <a:pt x="865" y="565"/>
                </a:lnTo>
                <a:lnTo>
                  <a:pt x="1236" y="283"/>
                </a:lnTo>
                <a:lnTo>
                  <a:pt x="865" y="0"/>
                </a:lnTo>
                <a:lnTo>
                  <a:pt x="865" y="187"/>
                </a:lnTo>
                <a:lnTo>
                  <a:pt x="0" y="1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69080" y="2247840"/>
            <a:ext cx="432000" cy="495720"/>
          </a:xfrm>
          <a:custGeom>
            <a:avLst/>
            <a:gdLst/>
            <a:ahLst/>
            <a:rect l="0" t="0" r="r" b="b"/>
            <a:pathLst>
              <a:path w="1200" h="1377">
                <a:moveTo>
                  <a:pt x="0" y="459"/>
                </a:moveTo>
                <a:lnTo>
                  <a:pt x="0" y="917"/>
                </a:lnTo>
                <a:lnTo>
                  <a:pt x="840" y="917"/>
                </a:lnTo>
                <a:lnTo>
                  <a:pt x="840" y="1377"/>
                </a:lnTo>
                <a:lnTo>
                  <a:pt x="1200" y="688"/>
                </a:lnTo>
                <a:lnTo>
                  <a:pt x="840" y="0"/>
                </a:lnTo>
                <a:lnTo>
                  <a:pt x="840" y="459"/>
                </a:lnTo>
                <a:lnTo>
                  <a:pt x="0" y="4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094520" y="682560"/>
            <a:ext cx="1479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4400" y="1333440"/>
            <a:ext cx="771516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19280" y="995400"/>
            <a:ext cx="81248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се предложения должны содержать типовую исходную информа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1800360"/>
            <a:ext cx="77151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79440" y="1380960"/>
            <a:ext cx="72360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I.    Цель — Какова проблема? Почему мы этим занимаем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03480" y="1855800"/>
            <a:ext cx="56275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II.  Квалификация — Почему мы являемся сам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ходящими людьми для работы над данной проблем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438280"/>
            <a:ext cx="77151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165320" y="2570040"/>
            <a:ext cx="59706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III. Подход — Каким образом мы намерены решать эту пробл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933640"/>
            <a:ext cx="7715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84400" y="3084480"/>
            <a:ext cx="47242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IV. Объем работы — Что мы выполним по проект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4191120"/>
            <a:ext cx="7715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95320" y="4705200"/>
            <a:ext cx="7715160" cy="5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95320" y="5410080"/>
            <a:ext cx="7715160" cy="4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203480" y="4303800"/>
            <a:ext cx="589284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VI. Результаты — Что мы предоставим клиенту — отчеты и т. д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89000" y="4799160"/>
            <a:ext cx="5227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VII. Команда — Кто именно будет выполнять эту работ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320" y="5981760"/>
            <a:ext cx="7715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1480" y="5484960"/>
            <a:ext cx="60879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VIII. Затраты — Каковы затраты и как они должны быть оплаче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55600" y="6027840"/>
            <a:ext cx="54784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IX. Общие условия — Каковы правила для данного проек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3467160"/>
            <a:ext cx="7715160" cy="5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4240" y="3541680"/>
            <a:ext cx="747072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V. План работы — Что мы конкретно будем делать для выполнения проек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094520" y="682560"/>
            <a:ext cx="1479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аркетинг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803240" y="1244520"/>
            <a:ext cx="5715360" cy="5170680"/>
            <a:chOff x="1803240" y="1244520"/>
            <a:chExt cx="5715360" cy="5170680"/>
          </a:xfrm>
        </p:grpSpPr>
        <p:sp>
          <p:nvSpPr>
            <p:cNvPr id="375" name=""/>
            <p:cNvSpPr/>
            <p:nvPr/>
          </p:nvSpPr>
          <p:spPr>
            <a:xfrm>
              <a:off x="2251080" y="5910120"/>
              <a:ext cx="1019520" cy="505080"/>
            </a:xfrm>
            <a:custGeom>
              <a:avLst/>
              <a:gdLst/>
              <a:ahLst/>
              <a:rect l="0" t="0" r="r" b="b"/>
              <a:pathLst>
                <a:path w="2832" h="1403">
                  <a:moveTo>
                    <a:pt x="1813" y="0"/>
                  </a:moveTo>
                  <a:lnTo>
                    <a:pt x="370" y="119"/>
                  </a:lnTo>
                  <a:lnTo>
                    <a:pt x="224" y="211"/>
                  </a:lnTo>
                  <a:lnTo>
                    <a:pt x="136" y="317"/>
                  </a:lnTo>
                  <a:lnTo>
                    <a:pt x="57" y="436"/>
                  </a:lnTo>
                  <a:lnTo>
                    <a:pt x="0" y="635"/>
                  </a:lnTo>
                  <a:lnTo>
                    <a:pt x="8" y="856"/>
                  </a:lnTo>
                  <a:lnTo>
                    <a:pt x="57" y="975"/>
                  </a:lnTo>
                  <a:lnTo>
                    <a:pt x="136" y="1107"/>
                  </a:lnTo>
                  <a:lnTo>
                    <a:pt x="286" y="1218"/>
                  </a:lnTo>
                  <a:lnTo>
                    <a:pt x="463" y="1310"/>
                  </a:lnTo>
                  <a:lnTo>
                    <a:pt x="648" y="1363"/>
                  </a:lnTo>
                  <a:lnTo>
                    <a:pt x="802" y="1390"/>
                  </a:lnTo>
                  <a:lnTo>
                    <a:pt x="1009" y="1403"/>
                  </a:lnTo>
                  <a:lnTo>
                    <a:pt x="996" y="1390"/>
                  </a:lnTo>
                  <a:lnTo>
                    <a:pt x="2117" y="1297"/>
                  </a:lnTo>
                  <a:lnTo>
                    <a:pt x="2832" y="0"/>
                  </a:lnTo>
                  <a:lnTo>
                    <a:pt x="1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03240" y="1244520"/>
              <a:ext cx="5715360" cy="5166000"/>
            </a:xfrm>
            <a:custGeom>
              <a:avLst/>
              <a:gdLst/>
              <a:ahLst/>
              <a:rect l="0" t="0" r="r" b="b"/>
              <a:pathLst>
                <a:path w="15876" h="14350">
                  <a:moveTo>
                    <a:pt x="1001" y="26"/>
                  </a:moveTo>
                  <a:lnTo>
                    <a:pt x="890" y="52"/>
                  </a:lnTo>
                  <a:lnTo>
                    <a:pt x="745" y="114"/>
                  </a:lnTo>
                  <a:lnTo>
                    <a:pt x="568" y="246"/>
                  </a:lnTo>
                  <a:lnTo>
                    <a:pt x="335" y="436"/>
                  </a:lnTo>
                  <a:lnTo>
                    <a:pt x="167" y="643"/>
                  </a:lnTo>
                  <a:lnTo>
                    <a:pt x="70" y="859"/>
                  </a:lnTo>
                  <a:lnTo>
                    <a:pt x="30" y="1053"/>
                  </a:lnTo>
                  <a:lnTo>
                    <a:pt x="0" y="1305"/>
                  </a:lnTo>
                  <a:lnTo>
                    <a:pt x="0" y="1547"/>
                  </a:lnTo>
                  <a:lnTo>
                    <a:pt x="39" y="1755"/>
                  </a:lnTo>
                  <a:lnTo>
                    <a:pt x="70" y="1966"/>
                  </a:lnTo>
                  <a:lnTo>
                    <a:pt x="119" y="2151"/>
                  </a:lnTo>
                  <a:lnTo>
                    <a:pt x="282" y="2641"/>
                  </a:lnTo>
                  <a:lnTo>
                    <a:pt x="507" y="3183"/>
                  </a:lnTo>
                  <a:lnTo>
                    <a:pt x="842" y="3779"/>
                  </a:lnTo>
                  <a:lnTo>
                    <a:pt x="1177" y="4458"/>
                  </a:lnTo>
                  <a:lnTo>
                    <a:pt x="1516" y="5053"/>
                  </a:lnTo>
                  <a:lnTo>
                    <a:pt x="1803" y="5648"/>
                  </a:lnTo>
                  <a:lnTo>
                    <a:pt x="2143" y="6363"/>
                  </a:lnTo>
                  <a:lnTo>
                    <a:pt x="2429" y="7277"/>
                  </a:lnTo>
                  <a:lnTo>
                    <a:pt x="2623" y="8070"/>
                  </a:lnTo>
                  <a:lnTo>
                    <a:pt x="2817" y="9062"/>
                  </a:lnTo>
                  <a:lnTo>
                    <a:pt x="2910" y="10134"/>
                  </a:lnTo>
                  <a:lnTo>
                    <a:pt x="3055" y="11087"/>
                  </a:lnTo>
                  <a:lnTo>
                    <a:pt x="3055" y="11602"/>
                  </a:lnTo>
                  <a:lnTo>
                    <a:pt x="3055" y="12286"/>
                  </a:lnTo>
                  <a:lnTo>
                    <a:pt x="3055" y="12723"/>
                  </a:lnTo>
                  <a:lnTo>
                    <a:pt x="3016" y="13133"/>
                  </a:lnTo>
                  <a:lnTo>
                    <a:pt x="2861" y="13556"/>
                  </a:lnTo>
                  <a:lnTo>
                    <a:pt x="2760" y="13807"/>
                  </a:lnTo>
                  <a:lnTo>
                    <a:pt x="2623" y="14032"/>
                  </a:lnTo>
                  <a:lnTo>
                    <a:pt x="2487" y="14178"/>
                  </a:lnTo>
                  <a:lnTo>
                    <a:pt x="2390" y="14262"/>
                  </a:lnTo>
                  <a:lnTo>
                    <a:pt x="2284" y="14350"/>
                  </a:lnTo>
                  <a:lnTo>
                    <a:pt x="3699" y="14222"/>
                  </a:lnTo>
                  <a:lnTo>
                    <a:pt x="6434" y="13913"/>
                  </a:lnTo>
                  <a:lnTo>
                    <a:pt x="8696" y="13675"/>
                  </a:lnTo>
                  <a:lnTo>
                    <a:pt x="11294" y="13437"/>
                  </a:lnTo>
                  <a:lnTo>
                    <a:pt x="13231" y="13358"/>
                  </a:lnTo>
                  <a:lnTo>
                    <a:pt x="14721" y="13397"/>
                  </a:lnTo>
                  <a:lnTo>
                    <a:pt x="15105" y="13397"/>
                  </a:lnTo>
                  <a:lnTo>
                    <a:pt x="15347" y="13358"/>
                  </a:lnTo>
                  <a:lnTo>
                    <a:pt x="15493" y="13159"/>
                  </a:lnTo>
                  <a:lnTo>
                    <a:pt x="15634" y="12939"/>
                  </a:lnTo>
                  <a:lnTo>
                    <a:pt x="15757" y="12617"/>
                  </a:lnTo>
                  <a:lnTo>
                    <a:pt x="15828" y="12224"/>
                  </a:lnTo>
                  <a:lnTo>
                    <a:pt x="15876" y="11849"/>
                  </a:lnTo>
                  <a:lnTo>
                    <a:pt x="15876" y="11298"/>
                  </a:lnTo>
                  <a:lnTo>
                    <a:pt x="15854" y="10870"/>
                  </a:lnTo>
                  <a:lnTo>
                    <a:pt x="15828" y="10174"/>
                  </a:lnTo>
                  <a:lnTo>
                    <a:pt x="15682" y="9420"/>
                  </a:lnTo>
                  <a:lnTo>
                    <a:pt x="15444" y="8450"/>
                  </a:lnTo>
                  <a:lnTo>
                    <a:pt x="15153" y="7554"/>
                  </a:lnTo>
                  <a:lnTo>
                    <a:pt x="14915" y="6760"/>
                  </a:lnTo>
                  <a:lnTo>
                    <a:pt x="14527" y="5886"/>
                  </a:lnTo>
                  <a:lnTo>
                    <a:pt x="14143" y="5093"/>
                  </a:lnTo>
                  <a:lnTo>
                    <a:pt x="13808" y="4339"/>
                  </a:lnTo>
                  <a:lnTo>
                    <a:pt x="13279" y="3263"/>
                  </a:lnTo>
                  <a:lnTo>
                    <a:pt x="12988" y="2628"/>
                  </a:lnTo>
                  <a:lnTo>
                    <a:pt x="12812" y="2204"/>
                  </a:lnTo>
                  <a:lnTo>
                    <a:pt x="12715" y="1874"/>
                  </a:lnTo>
                  <a:lnTo>
                    <a:pt x="12675" y="1561"/>
                  </a:lnTo>
                  <a:lnTo>
                    <a:pt x="12675" y="1292"/>
                  </a:lnTo>
                  <a:lnTo>
                    <a:pt x="12891" y="326"/>
                  </a:lnTo>
                  <a:lnTo>
                    <a:pt x="12988" y="127"/>
                  </a:lnTo>
                  <a:lnTo>
                    <a:pt x="1155" y="0"/>
                  </a:lnTo>
                  <a:lnTo>
                    <a:pt x="1001" y="2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03480" y="1481040"/>
              <a:ext cx="471960" cy="338400"/>
            </a:xfrm>
            <a:custGeom>
              <a:avLst/>
              <a:gdLst/>
              <a:ahLst/>
              <a:rect l="0" t="0" r="r" b="b"/>
              <a:pathLst>
                <a:path w="1311" h="940">
                  <a:moveTo>
                    <a:pt x="1311" y="66"/>
                  </a:moveTo>
                  <a:lnTo>
                    <a:pt x="971" y="860"/>
                  </a:lnTo>
                  <a:lnTo>
                    <a:pt x="636" y="940"/>
                  </a:lnTo>
                  <a:lnTo>
                    <a:pt x="468" y="927"/>
                  </a:lnTo>
                  <a:lnTo>
                    <a:pt x="295" y="874"/>
                  </a:lnTo>
                  <a:lnTo>
                    <a:pt x="167" y="781"/>
                  </a:lnTo>
                  <a:lnTo>
                    <a:pt x="79" y="688"/>
                  </a:lnTo>
                  <a:lnTo>
                    <a:pt x="22" y="569"/>
                  </a:lnTo>
                  <a:lnTo>
                    <a:pt x="0" y="463"/>
                  </a:lnTo>
                  <a:lnTo>
                    <a:pt x="8" y="326"/>
                  </a:lnTo>
                  <a:lnTo>
                    <a:pt x="57" y="224"/>
                  </a:lnTo>
                  <a:lnTo>
                    <a:pt x="154" y="145"/>
                  </a:lnTo>
                  <a:lnTo>
                    <a:pt x="273" y="79"/>
                  </a:lnTo>
                  <a:lnTo>
                    <a:pt x="419" y="48"/>
                  </a:lnTo>
                  <a:lnTo>
                    <a:pt x="538" y="26"/>
                  </a:lnTo>
                  <a:lnTo>
                    <a:pt x="675" y="8"/>
                  </a:lnTo>
                  <a:lnTo>
                    <a:pt x="781" y="8"/>
                  </a:lnTo>
                  <a:lnTo>
                    <a:pt x="918" y="0"/>
                  </a:lnTo>
                  <a:lnTo>
                    <a:pt x="1311" y="6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7440" y="1461960"/>
              <a:ext cx="327240" cy="276480"/>
            </a:xfrm>
            <a:custGeom>
              <a:avLst/>
              <a:gdLst/>
              <a:ahLst/>
              <a:rect l="0" t="0" r="r" b="b"/>
              <a:pathLst>
                <a:path w="909" h="768">
                  <a:moveTo>
                    <a:pt x="0" y="92"/>
                  </a:moveTo>
                  <a:lnTo>
                    <a:pt x="167" y="194"/>
                  </a:lnTo>
                  <a:lnTo>
                    <a:pt x="246" y="291"/>
                  </a:lnTo>
                  <a:lnTo>
                    <a:pt x="286" y="393"/>
                  </a:lnTo>
                  <a:lnTo>
                    <a:pt x="295" y="538"/>
                  </a:lnTo>
                  <a:lnTo>
                    <a:pt x="264" y="658"/>
                  </a:lnTo>
                  <a:lnTo>
                    <a:pt x="167" y="768"/>
                  </a:lnTo>
                  <a:lnTo>
                    <a:pt x="909" y="636"/>
                  </a:lnTo>
                  <a:lnTo>
                    <a:pt x="847" y="0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93840" y="1247760"/>
              <a:ext cx="4783320" cy="572040"/>
            </a:xfrm>
            <a:custGeom>
              <a:avLst/>
              <a:gdLst/>
              <a:ahLst/>
              <a:rect l="0" t="0" r="r" b="b"/>
              <a:pathLst>
                <a:path w="13287" h="1589">
                  <a:moveTo>
                    <a:pt x="12573" y="119"/>
                  </a:moveTo>
                  <a:lnTo>
                    <a:pt x="0" y="0"/>
                  </a:lnTo>
                  <a:lnTo>
                    <a:pt x="352" y="48"/>
                  </a:lnTo>
                  <a:lnTo>
                    <a:pt x="480" y="79"/>
                  </a:lnTo>
                  <a:lnTo>
                    <a:pt x="617" y="127"/>
                  </a:lnTo>
                  <a:lnTo>
                    <a:pt x="705" y="198"/>
                  </a:lnTo>
                  <a:lnTo>
                    <a:pt x="811" y="304"/>
                  </a:lnTo>
                  <a:lnTo>
                    <a:pt x="859" y="433"/>
                  </a:lnTo>
                  <a:lnTo>
                    <a:pt x="890" y="565"/>
                  </a:lnTo>
                  <a:lnTo>
                    <a:pt x="903" y="697"/>
                  </a:lnTo>
                  <a:lnTo>
                    <a:pt x="912" y="807"/>
                  </a:lnTo>
                  <a:lnTo>
                    <a:pt x="890" y="975"/>
                  </a:lnTo>
                  <a:lnTo>
                    <a:pt x="859" y="1134"/>
                  </a:lnTo>
                  <a:lnTo>
                    <a:pt x="771" y="1272"/>
                  </a:lnTo>
                  <a:lnTo>
                    <a:pt x="635" y="1413"/>
                  </a:lnTo>
                  <a:lnTo>
                    <a:pt x="463" y="1505"/>
                  </a:lnTo>
                  <a:lnTo>
                    <a:pt x="330" y="1589"/>
                  </a:lnTo>
                  <a:lnTo>
                    <a:pt x="1155" y="1510"/>
                  </a:lnTo>
                  <a:lnTo>
                    <a:pt x="2068" y="1391"/>
                  </a:lnTo>
                  <a:lnTo>
                    <a:pt x="3518" y="1311"/>
                  </a:lnTo>
                  <a:lnTo>
                    <a:pt x="4722" y="1232"/>
                  </a:lnTo>
                  <a:lnTo>
                    <a:pt x="6164" y="1232"/>
                  </a:lnTo>
                  <a:lnTo>
                    <a:pt x="7753" y="1272"/>
                  </a:lnTo>
                  <a:lnTo>
                    <a:pt x="9728" y="1311"/>
                  </a:lnTo>
                  <a:lnTo>
                    <a:pt x="11611" y="1430"/>
                  </a:lnTo>
                  <a:lnTo>
                    <a:pt x="12383" y="1549"/>
                  </a:lnTo>
                  <a:lnTo>
                    <a:pt x="12599" y="1576"/>
                  </a:lnTo>
                  <a:lnTo>
                    <a:pt x="12837" y="1585"/>
                  </a:lnTo>
                  <a:lnTo>
                    <a:pt x="13005" y="1549"/>
                  </a:lnTo>
                  <a:lnTo>
                    <a:pt x="13150" y="1430"/>
                  </a:lnTo>
                  <a:lnTo>
                    <a:pt x="13230" y="1285"/>
                  </a:lnTo>
                  <a:lnTo>
                    <a:pt x="13269" y="1160"/>
                  </a:lnTo>
                  <a:lnTo>
                    <a:pt x="13287" y="1019"/>
                  </a:lnTo>
                  <a:lnTo>
                    <a:pt x="13256" y="768"/>
                  </a:lnTo>
                  <a:lnTo>
                    <a:pt x="13190" y="609"/>
                  </a:lnTo>
                  <a:lnTo>
                    <a:pt x="13093" y="446"/>
                  </a:lnTo>
                  <a:lnTo>
                    <a:pt x="13005" y="339"/>
                  </a:lnTo>
                  <a:lnTo>
                    <a:pt x="12903" y="251"/>
                  </a:lnTo>
                  <a:lnTo>
                    <a:pt x="12749" y="167"/>
                  </a:lnTo>
                  <a:lnTo>
                    <a:pt x="12573" y="119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 txBox="1"/>
          <p:nvPr/>
        </p:nvSpPr>
        <p:spPr>
          <a:xfrm>
            <a:off x="2654280" y="1998720"/>
            <a:ext cx="3710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асть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946240" y="3263760"/>
            <a:ext cx="3801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лучение поддержки рук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784600" y="3683160"/>
            <a:ext cx="42354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азвитие командного подхода к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197160" y="4181400"/>
            <a:ext cx="3660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Информирование персонала и заинтересован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139920" y="4905360"/>
            <a:ext cx="36608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Диагностика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Решения и их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533520" y="1600200"/>
            <a:ext cx="7849080" cy="4343760"/>
            <a:chOff x="533520" y="1600200"/>
            <a:chExt cx="7849080" cy="4343760"/>
          </a:xfrm>
        </p:grpSpPr>
        <p:sp>
          <p:nvSpPr>
            <p:cNvPr id="386" name=""/>
            <p:cNvSpPr/>
            <p:nvPr/>
          </p:nvSpPr>
          <p:spPr>
            <a:xfrm>
              <a:off x="2133720" y="5029200"/>
              <a:ext cx="6248880" cy="914760"/>
            </a:xfrm>
            <a:custGeom>
              <a:avLst/>
              <a:gdLst/>
              <a:ahLst/>
              <a:rect l="0" t="0" r="r" b="b"/>
              <a:pathLst>
                <a:path w="17358" h="2541">
                  <a:moveTo>
                    <a:pt x="0" y="2541"/>
                  </a:moveTo>
                  <a:lnTo>
                    <a:pt x="13887" y="2541"/>
                  </a:lnTo>
                  <a:lnTo>
                    <a:pt x="17358" y="2033"/>
                  </a:lnTo>
                  <a:lnTo>
                    <a:pt x="17358" y="0"/>
                  </a:lnTo>
                  <a:lnTo>
                    <a:pt x="13887" y="507"/>
                  </a:lnTo>
                  <a:lnTo>
                    <a:pt x="13887" y="2541"/>
                  </a:lnTo>
                  <a:lnTo>
                    <a:pt x="13887" y="507"/>
                  </a:lnTo>
                  <a:lnTo>
                    <a:pt x="0" y="507"/>
                  </a:lnTo>
                  <a:lnTo>
                    <a:pt x="3471" y="0"/>
                  </a:lnTo>
                  <a:lnTo>
                    <a:pt x="17358" y="0"/>
                  </a:lnTo>
                  <a:lnTo>
                    <a:pt x="3471" y="0"/>
                  </a:lnTo>
                  <a:lnTo>
                    <a:pt x="0" y="507"/>
                  </a:lnTo>
                  <a:lnTo>
                    <a:pt x="0" y="2541"/>
                  </a:lnTo>
                  <a:close/>
                </a:path>
              </a:pathLst>
            </a:custGeom>
            <a:solidFill>
              <a:srgbClr val="a3f25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2480" y="4191120"/>
              <a:ext cx="6248880" cy="914760"/>
            </a:xfrm>
            <a:custGeom>
              <a:avLst/>
              <a:gdLst/>
              <a:ahLst/>
              <a:rect l="0" t="0" r="r" b="b"/>
              <a:pathLst>
                <a:path w="17358" h="2541">
                  <a:moveTo>
                    <a:pt x="0" y="2541"/>
                  </a:moveTo>
                  <a:lnTo>
                    <a:pt x="13887" y="2541"/>
                  </a:lnTo>
                  <a:lnTo>
                    <a:pt x="17358" y="2033"/>
                  </a:lnTo>
                  <a:lnTo>
                    <a:pt x="17358" y="0"/>
                  </a:lnTo>
                  <a:lnTo>
                    <a:pt x="13887" y="507"/>
                  </a:lnTo>
                  <a:lnTo>
                    <a:pt x="13887" y="2541"/>
                  </a:lnTo>
                  <a:lnTo>
                    <a:pt x="13887" y="507"/>
                  </a:lnTo>
                  <a:lnTo>
                    <a:pt x="0" y="507"/>
                  </a:lnTo>
                  <a:lnTo>
                    <a:pt x="3471" y="0"/>
                  </a:lnTo>
                  <a:lnTo>
                    <a:pt x="17358" y="0"/>
                  </a:lnTo>
                  <a:lnTo>
                    <a:pt x="3471" y="0"/>
                  </a:lnTo>
                  <a:lnTo>
                    <a:pt x="0" y="507"/>
                  </a:lnTo>
                  <a:lnTo>
                    <a:pt x="0" y="2541"/>
                  </a:lnTo>
                  <a:close/>
                </a:path>
              </a:pathLst>
            </a:custGeom>
            <a:solidFill>
              <a:srgbClr val="a3f25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95280" y="3352680"/>
              <a:ext cx="6248880" cy="914760"/>
            </a:xfrm>
            <a:custGeom>
              <a:avLst/>
              <a:gdLst/>
              <a:ahLst/>
              <a:rect l="0" t="0" r="r" b="b"/>
              <a:pathLst>
                <a:path w="17358" h="2541">
                  <a:moveTo>
                    <a:pt x="0" y="2541"/>
                  </a:moveTo>
                  <a:lnTo>
                    <a:pt x="13887" y="2541"/>
                  </a:lnTo>
                  <a:lnTo>
                    <a:pt x="17358" y="2033"/>
                  </a:lnTo>
                  <a:lnTo>
                    <a:pt x="17358" y="0"/>
                  </a:lnTo>
                  <a:lnTo>
                    <a:pt x="13887" y="507"/>
                  </a:lnTo>
                  <a:lnTo>
                    <a:pt x="13887" y="2541"/>
                  </a:lnTo>
                  <a:lnTo>
                    <a:pt x="13887" y="507"/>
                  </a:lnTo>
                  <a:lnTo>
                    <a:pt x="0" y="507"/>
                  </a:lnTo>
                  <a:lnTo>
                    <a:pt x="3471" y="0"/>
                  </a:lnTo>
                  <a:lnTo>
                    <a:pt x="17358" y="0"/>
                  </a:lnTo>
                  <a:lnTo>
                    <a:pt x="3471" y="0"/>
                  </a:lnTo>
                  <a:lnTo>
                    <a:pt x="0" y="507"/>
                  </a:lnTo>
                  <a:lnTo>
                    <a:pt x="0" y="2541"/>
                  </a:lnTo>
                  <a:close/>
                </a:path>
              </a:pathLst>
            </a:custGeom>
            <a:solidFill>
              <a:srgbClr val="a3f25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14400" y="2514600"/>
              <a:ext cx="6248880" cy="914760"/>
            </a:xfrm>
            <a:custGeom>
              <a:avLst/>
              <a:gdLst/>
              <a:ahLst/>
              <a:rect l="0" t="0" r="r" b="b"/>
              <a:pathLst>
                <a:path w="17358" h="2541">
                  <a:moveTo>
                    <a:pt x="0" y="2541"/>
                  </a:moveTo>
                  <a:lnTo>
                    <a:pt x="13887" y="2541"/>
                  </a:lnTo>
                  <a:lnTo>
                    <a:pt x="17358" y="2033"/>
                  </a:lnTo>
                  <a:lnTo>
                    <a:pt x="17358" y="0"/>
                  </a:lnTo>
                  <a:lnTo>
                    <a:pt x="13887" y="507"/>
                  </a:lnTo>
                  <a:lnTo>
                    <a:pt x="13887" y="2541"/>
                  </a:lnTo>
                  <a:lnTo>
                    <a:pt x="13887" y="507"/>
                  </a:lnTo>
                  <a:lnTo>
                    <a:pt x="0" y="507"/>
                  </a:lnTo>
                  <a:lnTo>
                    <a:pt x="3471" y="0"/>
                  </a:lnTo>
                  <a:lnTo>
                    <a:pt x="17358" y="0"/>
                  </a:lnTo>
                  <a:lnTo>
                    <a:pt x="3471" y="0"/>
                  </a:lnTo>
                  <a:lnTo>
                    <a:pt x="0" y="507"/>
                  </a:lnTo>
                  <a:lnTo>
                    <a:pt x="0" y="2541"/>
                  </a:lnTo>
                  <a:close/>
                </a:path>
              </a:pathLst>
            </a:custGeom>
            <a:solidFill>
              <a:srgbClr val="a3f25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520" y="1600200"/>
              <a:ext cx="6248880" cy="991080"/>
            </a:xfrm>
            <a:custGeom>
              <a:avLst/>
              <a:gdLst/>
              <a:ahLst/>
              <a:rect l="0" t="0" r="r" b="b"/>
              <a:pathLst>
                <a:path w="17358" h="2753">
                  <a:moveTo>
                    <a:pt x="0" y="2753"/>
                  </a:moveTo>
                  <a:lnTo>
                    <a:pt x="13887" y="2753"/>
                  </a:lnTo>
                  <a:lnTo>
                    <a:pt x="17358" y="2203"/>
                  </a:lnTo>
                  <a:lnTo>
                    <a:pt x="17358" y="0"/>
                  </a:lnTo>
                  <a:lnTo>
                    <a:pt x="13887" y="550"/>
                  </a:lnTo>
                  <a:lnTo>
                    <a:pt x="13887" y="2753"/>
                  </a:lnTo>
                  <a:lnTo>
                    <a:pt x="13887" y="550"/>
                  </a:lnTo>
                  <a:lnTo>
                    <a:pt x="0" y="550"/>
                  </a:lnTo>
                  <a:lnTo>
                    <a:pt x="3471" y="0"/>
                  </a:lnTo>
                  <a:lnTo>
                    <a:pt x="17358" y="0"/>
                  </a:lnTo>
                  <a:lnTo>
                    <a:pt x="3471" y="0"/>
                  </a:lnTo>
                  <a:lnTo>
                    <a:pt x="0" y="550"/>
                  </a:lnTo>
                  <a:lnTo>
                    <a:pt x="0" y="2753"/>
                  </a:lnTo>
                  <a:close/>
                </a:path>
              </a:pathLst>
            </a:custGeom>
            <a:solidFill>
              <a:srgbClr val="a3f25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 txBox="1"/>
          <p:nvPr/>
        </p:nvSpPr>
        <p:spPr>
          <a:xfrm>
            <a:off x="609480" y="1905120"/>
            <a:ext cx="609588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готовка руководства и предприятия в цело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 консультационному проек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66680" y="2895480"/>
            <a:ext cx="571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иагностика причи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блем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47920" y="3657600"/>
            <a:ext cx="5715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движение рекомендаций и переговоры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 конкретных мероприят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28800" y="4572000"/>
            <a:ext cx="571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полнение пла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екта (мероприят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09680" y="5410080"/>
            <a:ext cx="5562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следующа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держка и оценка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32040" y="1119240"/>
            <a:ext cx="7848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труктура консультационного проекта - эта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1752480"/>
            <a:ext cx="305280" cy="609840"/>
          </a:xfrm>
          <a:custGeom>
            <a:avLst/>
            <a:gdLst/>
            <a:ahLst/>
            <a:rect l="0" t="0" r="r" b="b"/>
            <a:pathLst>
              <a:path w="848" h="1694">
                <a:moveTo>
                  <a:pt x="848" y="563"/>
                </a:moveTo>
                <a:lnTo>
                  <a:pt x="848" y="1128"/>
                </a:lnTo>
                <a:lnTo>
                  <a:pt x="255" y="1128"/>
                </a:lnTo>
                <a:lnTo>
                  <a:pt x="255" y="1694"/>
                </a:lnTo>
                <a:lnTo>
                  <a:pt x="0" y="846"/>
                </a:lnTo>
                <a:lnTo>
                  <a:pt x="255" y="0"/>
                </a:lnTo>
                <a:lnTo>
                  <a:pt x="255" y="563"/>
                </a:lnTo>
                <a:lnTo>
                  <a:pt x="848" y="563"/>
                </a:lnTo>
                <a:close/>
              </a:path>
            </a:pathLst>
          </a:custGeom>
          <a:solidFill>
            <a:srgbClr val="3a3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590920"/>
            <a:ext cx="305280" cy="609840"/>
          </a:xfrm>
          <a:custGeom>
            <a:avLst/>
            <a:gdLst/>
            <a:ahLst/>
            <a:rect l="0" t="0" r="r" b="b"/>
            <a:pathLst>
              <a:path w="848" h="1694">
                <a:moveTo>
                  <a:pt x="848" y="563"/>
                </a:moveTo>
                <a:lnTo>
                  <a:pt x="848" y="1128"/>
                </a:lnTo>
                <a:lnTo>
                  <a:pt x="255" y="1128"/>
                </a:lnTo>
                <a:lnTo>
                  <a:pt x="255" y="1694"/>
                </a:lnTo>
                <a:lnTo>
                  <a:pt x="0" y="846"/>
                </a:lnTo>
                <a:lnTo>
                  <a:pt x="255" y="0"/>
                </a:lnTo>
                <a:lnTo>
                  <a:pt x="255" y="563"/>
                </a:lnTo>
                <a:lnTo>
                  <a:pt x="848" y="563"/>
                </a:lnTo>
                <a:close/>
              </a:path>
            </a:pathLst>
          </a:custGeom>
          <a:solidFill>
            <a:srgbClr val="3a3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0120" y="3429000"/>
            <a:ext cx="305280" cy="609840"/>
          </a:xfrm>
          <a:custGeom>
            <a:avLst/>
            <a:gdLst/>
            <a:ahLst/>
            <a:rect l="0" t="0" r="r" b="b"/>
            <a:pathLst>
              <a:path w="848" h="1694">
                <a:moveTo>
                  <a:pt x="848" y="563"/>
                </a:moveTo>
                <a:lnTo>
                  <a:pt x="848" y="1128"/>
                </a:lnTo>
                <a:lnTo>
                  <a:pt x="255" y="1128"/>
                </a:lnTo>
                <a:lnTo>
                  <a:pt x="255" y="1694"/>
                </a:lnTo>
                <a:lnTo>
                  <a:pt x="0" y="846"/>
                </a:lnTo>
                <a:lnTo>
                  <a:pt x="255" y="0"/>
                </a:lnTo>
                <a:lnTo>
                  <a:pt x="255" y="563"/>
                </a:lnTo>
                <a:lnTo>
                  <a:pt x="848" y="563"/>
                </a:lnTo>
                <a:close/>
              </a:path>
            </a:pathLst>
          </a:custGeom>
          <a:solidFill>
            <a:srgbClr val="3a3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77320" y="4267080"/>
            <a:ext cx="305280" cy="609840"/>
          </a:xfrm>
          <a:custGeom>
            <a:avLst/>
            <a:gdLst/>
            <a:ahLst/>
            <a:rect l="0" t="0" r="r" b="b"/>
            <a:pathLst>
              <a:path w="848" h="1694">
                <a:moveTo>
                  <a:pt x="848" y="563"/>
                </a:moveTo>
                <a:lnTo>
                  <a:pt x="848" y="1128"/>
                </a:lnTo>
                <a:lnTo>
                  <a:pt x="255" y="1128"/>
                </a:lnTo>
                <a:lnTo>
                  <a:pt x="255" y="1694"/>
                </a:lnTo>
                <a:lnTo>
                  <a:pt x="0" y="846"/>
                </a:lnTo>
                <a:lnTo>
                  <a:pt x="255" y="0"/>
                </a:lnTo>
                <a:lnTo>
                  <a:pt x="255" y="563"/>
                </a:lnTo>
                <a:lnTo>
                  <a:pt x="848" y="563"/>
                </a:lnTo>
                <a:close/>
              </a:path>
            </a:pathLst>
          </a:custGeom>
          <a:solidFill>
            <a:srgbClr val="3a3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591240" y="685800"/>
            <a:ext cx="2184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760320" y="1233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йствия консультанта на этапе подготовки руководства и предприятия к проек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33520" y="1905120"/>
            <a:ext cx="4495680" cy="38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Выслушайте и уясните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, каким образом клиент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оспринимает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во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бл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Постарайтесь поня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“внутреннюю политику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Избегайте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“промахов” и ошиб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Заручитесь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держкой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Выявите и сформулируйт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блемы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Развивайте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андный подход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 рабо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 Cyr"/>
                <a:ea typeface="Times New Roman Cyr"/>
              </a:rPr>
              <a:t>Информируйте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ерс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1828800"/>
            <a:ext cx="3809880" cy="4191120"/>
          </a:xfrm>
          <a:prstGeom prst="ellipse">
            <a:avLst/>
          </a:prstGeom>
          <a:noFill/>
          <a:ln w="25560">
            <a:solidFill>
              <a:srgbClr val="6e0043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591240" y="685800"/>
            <a:ext cx="2184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932040" y="1233360"/>
            <a:ext cx="78487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йствия на этапе диагностики причин, вызывающих проблемы комп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94000" y="1981080"/>
            <a:ext cx="539280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3a3c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Анализ негативных аспек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мозговая атака” проблем и их причи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нжирование проблем по воспринимаемой степени их воздей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анализ причин и симптом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лассификация проблем по их реальному влиянию на эффективность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3a3c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бор информ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нутрен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неш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пользование методов интерв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инте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3a3c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Анализ и решение пробл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вторное рассмотрение причин существующих 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личественная оценка и утвержден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47880" y="1657440"/>
            <a:ext cx="1429200" cy="476640"/>
          </a:xfrm>
          <a:custGeom>
            <a:avLst/>
            <a:gdLst/>
            <a:ahLst/>
            <a:rect l="0" t="0" r="r" b="b"/>
            <a:pathLst>
              <a:path fill="none" w="3970" h="1324">
                <a:moveTo>
                  <a:pt x="0" y="0"/>
                </a:moveTo>
                <a:lnTo>
                  <a:pt x="0" y="0"/>
                </a:lnTo>
                <a:cubicBezTo>
                  <a:pt x="0" y="232"/>
                  <a:pt x="183" y="461"/>
                  <a:pt x="532" y="662"/>
                </a:cubicBezTo>
                <a:cubicBezTo>
                  <a:pt x="880" y="863"/>
                  <a:pt x="1381" y="1030"/>
                  <a:pt x="1985" y="1147"/>
                </a:cubicBezTo>
                <a:cubicBezTo>
                  <a:pt x="2589" y="1263"/>
                  <a:pt x="3273" y="1324"/>
                  <a:pt x="3970" y="132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47880" y="1666800"/>
            <a:ext cx="1391040" cy="2410200"/>
          </a:xfrm>
          <a:custGeom>
            <a:avLst/>
            <a:gdLst/>
            <a:ahLst/>
            <a:rect l="0" t="0" r="r" b="b"/>
            <a:pathLst>
              <a:path fill="none" w="3864" h="6695">
                <a:moveTo>
                  <a:pt x="0" y="0"/>
                </a:moveTo>
                <a:lnTo>
                  <a:pt x="0" y="0"/>
                </a:lnTo>
                <a:cubicBezTo>
                  <a:pt x="0" y="1175"/>
                  <a:pt x="179" y="2330"/>
                  <a:pt x="518" y="3348"/>
                </a:cubicBezTo>
                <a:cubicBezTo>
                  <a:pt x="857" y="4365"/>
                  <a:pt x="1345" y="5210"/>
                  <a:pt x="1932" y="5798"/>
                </a:cubicBezTo>
                <a:cubicBezTo>
                  <a:pt x="2519" y="6386"/>
                  <a:pt x="3186" y="6695"/>
                  <a:pt x="3864" y="6695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7880" y="1657440"/>
            <a:ext cx="1371960" cy="4001040"/>
          </a:xfrm>
          <a:custGeom>
            <a:avLst/>
            <a:gdLst/>
            <a:ahLst/>
            <a:rect l="0" t="0" r="r" b="b"/>
            <a:pathLst>
              <a:path fill="none" w="3811" h="11114">
                <a:moveTo>
                  <a:pt x="0" y="0"/>
                </a:moveTo>
                <a:lnTo>
                  <a:pt x="0" y="0"/>
                </a:lnTo>
                <a:cubicBezTo>
                  <a:pt x="0" y="1951"/>
                  <a:pt x="176" y="3867"/>
                  <a:pt x="511" y="5557"/>
                </a:cubicBezTo>
                <a:cubicBezTo>
                  <a:pt x="845" y="7247"/>
                  <a:pt x="1326" y="8650"/>
                  <a:pt x="1906" y="9625"/>
                </a:cubicBezTo>
                <a:cubicBezTo>
                  <a:pt x="2485" y="10600"/>
                  <a:pt x="3142" y="11114"/>
                  <a:pt x="3811" y="1111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591240" y="685800"/>
            <a:ext cx="2184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932040" y="1233360"/>
            <a:ext cx="78487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лучение твердой поддержки руковод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2114640"/>
            <a:ext cx="305280" cy="95760"/>
          </a:xfrm>
          <a:custGeom>
            <a:avLst/>
            <a:gdLst/>
            <a:ahLst/>
            <a:rect l="0" t="0" r="r" b="b"/>
            <a:pathLst>
              <a:path w="848" h="266">
                <a:moveTo>
                  <a:pt x="0" y="52"/>
                </a:moveTo>
                <a:lnTo>
                  <a:pt x="0" y="213"/>
                </a:lnTo>
                <a:lnTo>
                  <a:pt x="593" y="213"/>
                </a:lnTo>
                <a:lnTo>
                  <a:pt x="593" y="266"/>
                </a:lnTo>
                <a:lnTo>
                  <a:pt x="848" y="133"/>
                </a:lnTo>
                <a:lnTo>
                  <a:pt x="593" y="0"/>
                </a:lnTo>
                <a:lnTo>
                  <a:pt x="593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90720" y="1762200"/>
            <a:ext cx="74692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ичная поддержка (обязательство) высшего и среднего звена жизненно необходима для успеха консультацион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овлечение” руководства должно начинаться на самых ранних стадиях выработк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Цели должны быть четко сформулированы и широко одобр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Менеджеры должны активно вовлекаться в каждый этап консультацион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ключение менеджеров в состав команд в качестве руководителей должно содействовать конкретному и четкому распределению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кретные показатели успеха должны быть предварительно согласов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572160" y="687240"/>
            <a:ext cx="2271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32040" y="1011240"/>
            <a:ext cx="78487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явление и определение проб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27000" y="1409760"/>
            <a:ext cx="78487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ключение руководителей всех уровней в работу по выявлению (анализу с помощью “метода мозговой атаки”) проблемных участков предприятия предполаг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частие консультанта как объективного посредника, не высказывающего окончательных сужд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бор ведуще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езоговорочное принятие каждой формулировки 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каз от обвинений, указания на виновных или причины проблем при их обсужден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стойчивость при привлечении всех сотрудников к участию в обсуждении воп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нжирование проблем строится в порядке их отрицательного воздействия на эффективность деятельности компании по следующим сфер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ерационный денежный пот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быт проду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извод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572160" y="687240"/>
            <a:ext cx="2271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922320" y="1157400"/>
            <a:ext cx="7848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витие командного подхода к работе означает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7640" y="1562040"/>
            <a:ext cx="78487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анты должны настаивать на назначении “со-консультантов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-консультантами” должны быть заинтересованные, разбирающиеся в  проблемах и пользующиеся уважением сотрудники, которые могут оказывать содействие консультанту и разъяснять существо проекта дру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Группы “со-консультантов”  должны выработать конкретный конечный результат свое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476600" y="3332160"/>
            <a:ext cx="4173480" cy="3197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6585120" y="687240"/>
            <a:ext cx="2271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32040" y="1233360"/>
            <a:ext cx="7848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ипы консультационных продуктов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27000" y="1714680"/>
            <a:ext cx="784872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цессы могут представлять собой внедрение и испытание новых внутренн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ка и достижение внутреннего согласия по проблемам комп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согласованной долговременной стратегии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монстрация технолог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правленческое обучение персон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учение рабочих методам улучшения качества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здание групп для повышения производ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97600" y="682560"/>
            <a:ext cx="27813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Что такое консультирование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32040" y="1233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ирование персонала и заинтересованных организаций - важные мо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27000" y="1886040"/>
            <a:ext cx="7848720" cy="36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нсультирование давно существующих предприятий часто рождает обеспокоенность и непонимание среди работников предприятия и вне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егулярное и честное общение с работниками предприятия и заинтересованными организациями имеет важное значение для снижения степени сопротивления переме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ледует работать над тем, чтобы убедить работников и  заинтересованные организации в том, что для всех лучше иметь дело с процветающей, здоровой и развивающейся компанией, нежели с медленно умирающей фир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заимодействие с рабочими и служащими может быть особенно уместным при практических изменениях на рабочих мес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572160" y="687240"/>
            <a:ext cx="22716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0320" y="1233360"/>
            <a:ext cx="7848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следовательность выработки решений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017960" y="1828800"/>
            <a:ext cx="479124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3a3c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ение совещаний (в форме брифингов, рабочих групп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крытый анализ выводов диагност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остижение соглашения с клиентом по сделанным вывод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3a3c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сценарных подходов “наступления” на пробл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еделение нескольких подх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ка их преимуществ и недостат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ка затрат и выг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крытое обсуждение сценариев действий с руководством и персона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3a3c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официальных рекомендаций по действия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лучение поддержки руководства и персо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38280" y="3409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1600200"/>
            <a:ext cx="1371960" cy="3810240"/>
          </a:xfrm>
          <a:custGeom>
            <a:avLst/>
            <a:gdLst/>
            <a:ahLst/>
            <a:rect l="0" t="0" r="r" b="b"/>
            <a:pathLst>
              <a:path fill="none" w="3811" h="10584">
                <a:moveTo>
                  <a:pt x="0" y="0"/>
                </a:moveTo>
                <a:lnTo>
                  <a:pt x="0" y="10584"/>
                </a:lnTo>
                <a:lnTo>
                  <a:pt x="3811" y="10584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38280" y="1981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1581120"/>
            <a:ext cx="3790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591240" y="685800"/>
            <a:ext cx="2184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514600" y="4343400"/>
            <a:ext cx="4267080" cy="1523880"/>
          </a:xfrm>
          <a:prstGeom prst="round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905120"/>
            <a:ext cx="3733920" cy="2133720"/>
          </a:xfrm>
          <a:prstGeom prst="round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29200" y="1905120"/>
            <a:ext cx="3352680" cy="2133720"/>
          </a:xfrm>
          <a:prstGeom prst="round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32040" y="1042920"/>
            <a:ext cx="7848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полнение плана проек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33520" y="1981080"/>
            <a:ext cx="37339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еративные мероприятия для достижения быстрых и наглядных результа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ажность демонстрации прогре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обходимость экстренных 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19520" y="4419720"/>
            <a:ext cx="40384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ориентир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еделение целей и разработка графиков мероприя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спределение обяза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105520" y="1981080"/>
            <a:ext cx="365760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процессов осуществления изме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здание многофункциональных коман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крытое обсуждение достижений и про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1676520"/>
            <a:ext cx="457560" cy="2438640"/>
          </a:xfrm>
          <a:custGeom>
            <a:avLst/>
            <a:gdLst/>
            <a:ahLst/>
            <a:rect l="0" t="0" r="r" b="b"/>
            <a:pathLst>
              <a:path w="1271" h="6774">
                <a:moveTo>
                  <a:pt x="1271" y="2255"/>
                </a:moveTo>
                <a:lnTo>
                  <a:pt x="1271" y="4512"/>
                </a:lnTo>
                <a:lnTo>
                  <a:pt x="380" y="4512"/>
                </a:lnTo>
                <a:lnTo>
                  <a:pt x="380" y="6774"/>
                </a:lnTo>
                <a:lnTo>
                  <a:pt x="0" y="3386"/>
                </a:lnTo>
                <a:lnTo>
                  <a:pt x="380" y="0"/>
                </a:lnTo>
                <a:lnTo>
                  <a:pt x="380" y="2255"/>
                </a:lnTo>
                <a:lnTo>
                  <a:pt x="1271" y="2255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14520" y="1383480"/>
            <a:ext cx="1575720" cy="506520"/>
          </a:xfrm>
          <a:custGeom>
            <a:avLst/>
            <a:gdLst/>
            <a:ahLst/>
            <a:rect l="0" t="0" r="r" b="b"/>
            <a:pathLst>
              <a:path w="4377" h="1407">
                <a:moveTo>
                  <a:pt x="81" y="0"/>
                </a:moveTo>
                <a:lnTo>
                  <a:pt x="0" y="351"/>
                </a:lnTo>
                <a:lnTo>
                  <a:pt x="3035" y="1053"/>
                </a:lnTo>
                <a:lnTo>
                  <a:pt x="2954" y="1407"/>
                </a:lnTo>
                <a:lnTo>
                  <a:pt x="4377" y="1179"/>
                </a:lnTo>
                <a:lnTo>
                  <a:pt x="3198" y="348"/>
                </a:lnTo>
                <a:lnTo>
                  <a:pt x="3117" y="701"/>
                </a:lnTo>
                <a:lnTo>
                  <a:pt x="81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14680" y="1383840"/>
            <a:ext cx="1575720" cy="506160"/>
          </a:xfrm>
          <a:custGeom>
            <a:avLst/>
            <a:gdLst/>
            <a:ahLst/>
            <a:rect l="0" t="0" r="r" b="b"/>
            <a:pathLst>
              <a:path w="4377" h="1406">
                <a:moveTo>
                  <a:pt x="4377" y="352"/>
                </a:moveTo>
                <a:lnTo>
                  <a:pt x="4295" y="0"/>
                </a:lnTo>
                <a:lnTo>
                  <a:pt x="1260" y="701"/>
                </a:lnTo>
                <a:lnTo>
                  <a:pt x="1178" y="347"/>
                </a:lnTo>
                <a:lnTo>
                  <a:pt x="0" y="1178"/>
                </a:lnTo>
                <a:lnTo>
                  <a:pt x="1422" y="1406"/>
                </a:lnTo>
                <a:lnTo>
                  <a:pt x="1341" y="1053"/>
                </a:lnTo>
                <a:lnTo>
                  <a:pt x="4377" y="352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591240" y="685800"/>
            <a:ext cx="2184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Организация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1943280" y="1333440"/>
            <a:ext cx="5715360" cy="5170680"/>
            <a:chOff x="1943280" y="1333440"/>
            <a:chExt cx="5715360" cy="5170680"/>
          </a:xfrm>
        </p:grpSpPr>
        <p:sp>
          <p:nvSpPr>
            <p:cNvPr id="445" name=""/>
            <p:cNvSpPr/>
            <p:nvPr/>
          </p:nvSpPr>
          <p:spPr>
            <a:xfrm>
              <a:off x="2390760" y="5999040"/>
              <a:ext cx="1019520" cy="505080"/>
            </a:xfrm>
            <a:custGeom>
              <a:avLst/>
              <a:gdLst/>
              <a:ahLst/>
              <a:rect l="0" t="0" r="r" b="b"/>
              <a:pathLst>
                <a:path w="2832" h="1403">
                  <a:moveTo>
                    <a:pt x="1813" y="0"/>
                  </a:moveTo>
                  <a:lnTo>
                    <a:pt x="370" y="119"/>
                  </a:lnTo>
                  <a:lnTo>
                    <a:pt x="224" y="211"/>
                  </a:lnTo>
                  <a:lnTo>
                    <a:pt x="136" y="317"/>
                  </a:lnTo>
                  <a:lnTo>
                    <a:pt x="57" y="436"/>
                  </a:lnTo>
                  <a:lnTo>
                    <a:pt x="0" y="635"/>
                  </a:lnTo>
                  <a:lnTo>
                    <a:pt x="8" y="856"/>
                  </a:lnTo>
                  <a:lnTo>
                    <a:pt x="57" y="975"/>
                  </a:lnTo>
                  <a:lnTo>
                    <a:pt x="136" y="1107"/>
                  </a:lnTo>
                  <a:lnTo>
                    <a:pt x="286" y="1218"/>
                  </a:lnTo>
                  <a:lnTo>
                    <a:pt x="463" y="1310"/>
                  </a:lnTo>
                  <a:lnTo>
                    <a:pt x="648" y="1363"/>
                  </a:lnTo>
                  <a:lnTo>
                    <a:pt x="802" y="1390"/>
                  </a:lnTo>
                  <a:lnTo>
                    <a:pt x="1009" y="1403"/>
                  </a:lnTo>
                  <a:lnTo>
                    <a:pt x="996" y="1390"/>
                  </a:lnTo>
                  <a:lnTo>
                    <a:pt x="2117" y="1297"/>
                  </a:lnTo>
                  <a:lnTo>
                    <a:pt x="2832" y="0"/>
                  </a:lnTo>
                  <a:lnTo>
                    <a:pt x="1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3280" y="1333440"/>
              <a:ext cx="5715360" cy="5166000"/>
            </a:xfrm>
            <a:custGeom>
              <a:avLst/>
              <a:gdLst/>
              <a:ahLst/>
              <a:rect l="0" t="0" r="r" b="b"/>
              <a:pathLst>
                <a:path w="15876" h="14350">
                  <a:moveTo>
                    <a:pt x="1001" y="26"/>
                  </a:moveTo>
                  <a:lnTo>
                    <a:pt x="890" y="52"/>
                  </a:lnTo>
                  <a:lnTo>
                    <a:pt x="745" y="114"/>
                  </a:lnTo>
                  <a:lnTo>
                    <a:pt x="568" y="246"/>
                  </a:lnTo>
                  <a:lnTo>
                    <a:pt x="335" y="436"/>
                  </a:lnTo>
                  <a:lnTo>
                    <a:pt x="167" y="643"/>
                  </a:lnTo>
                  <a:lnTo>
                    <a:pt x="70" y="859"/>
                  </a:lnTo>
                  <a:lnTo>
                    <a:pt x="30" y="1053"/>
                  </a:lnTo>
                  <a:lnTo>
                    <a:pt x="0" y="1305"/>
                  </a:lnTo>
                  <a:lnTo>
                    <a:pt x="0" y="1547"/>
                  </a:lnTo>
                  <a:lnTo>
                    <a:pt x="39" y="1755"/>
                  </a:lnTo>
                  <a:lnTo>
                    <a:pt x="70" y="1966"/>
                  </a:lnTo>
                  <a:lnTo>
                    <a:pt x="119" y="2151"/>
                  </a:lnTo>
                  <a:lnTo>
                    <a:pt x="282" y="2641"/>
                  </a:lnTo>
                  <a:lnTo>
                    <a:pt x="507" y="3183"/>
                  </a:lnTo>
                  <a:lnTo>
                    <a:pt x="842" y="3779"/>
                  </a:lnTo>
                  <a:lnTo>
                    <a:pt x="1177" y="4458"/>
                  </a:lnTo>
                  <a:lnTo>
                    <a:pt x="1516" y="5053"/>
                  </a:lnTo>
                  <a:lnTo>
                    <a:pt x="1803" y="5648"/>
                  </a:lnTo>
                  <a:lnTo>
                    <a:pt x="2143" y="6363"/>
                  </a:lnTo>
                  <a:lnTo>
                    <a:pt x="2429" y="7277"/>
                  </a:lnTo>
                  <a:lnTo>
                    <a:pt x="2623" y="8070"/>
                  </a:lnTo>
                  <a:lnTo>
                    <a:pt x="2817" y="9062"/>
                  </a:lnTo>
                  <a:lnTo>
                    <a:pt x="2910" y="10134"/>
                  </a:lnTo>
                  <a:lnTo>
                    <a:pt x="3055" y="11087"/>
                  </a:lnTo>
                  <a:lnTo>
                    <a:pt x="3055" y="11602"/>
                  </a:lnTo>
                  <a:lnTo>
                    <a:pt x="3055" y="12286"/>
                  </a:lnTo>
                  <a:lnTo>
                    <a:pt x="3055" y="12723"/>
                  </a:lnTo>
                  <a:lnTo>
                    <a:pt x="3016" y="13133"/>
                  </a:lnTo>
                  <a:lnTo>
                    <a:pt x="2861" y="13556"/>
                  </a:lnTo>
                  <a:lnTo>
                    <a:pt x="2760" y="13807"/>
                  </a:lnTo>
                  <a:lnTo>
                    <a:pt x="2623" y="14032"/>
                  </a:lnTo>
                  <a:lnTo>
                    <a:pt x="2487" y="14178"/>
                  </a:lnTo>
                  <a:lnTo>
                    <a:pt x="2390" y="14262"/>
                  </a:lnTo>
                  <a:lnTo>
                    <a:pt x="2284" y="14350"/>
                  </a:lnTo>
                  <a:lnTo>
                    <a:pt x="3699" y="14222"/>
                  </a:lnTo>
                  <a:lnTo>
                    <a:pt x="6433" y="13913"/>
                  </a:lnTo>
                  <a:lnTo>
                    <a:pt x="8696" y="13675"/>
                  </a:lnTo>
                  <a:lnTo>
                    <a:pt x="11294" y="13437"/>
                  </a:lnTo>
                  <a:lnTo>
                    <a:pt x="13230" y="13358"/>
                  </a:lnTo>
                  <a:lnTo>
                    <a:pt x="14720" y="13397"/>
                  </a:lnTo>
                  <a:lnTo>
                    <a:pt x="15104" y="13397"/>
                  </a:lnTo>
                  <a:lnTo>
                    <a:pt x="15346" y="13358"/>
                  </a:lnTo>
                  <a:lnTo>
                    <a:pt x="15492" y="13159"/>
                  </a:lnTo>
                  <a:lnTo>
                    <a:pt x="15633" y="12939"/>
                  </a:lnTo>
                  <a:lnTo>
                    <a:pt x="15756" y="12617"/>
                  </a:lnTo>
                  <a:lnTo>
                    <a:pt x="15827" y="12224"/>
                  </a:lnTo>
                  <a:lnTo>
                    <a:pt x="15876" y="11849"/>
                  </a:lnTo>
                  <a:lnTo>
                    <a:pt x="15876" y="11298"/>
                  </a:lnTo>
                  <a:lnTo>
                    <a:pt x="15853" y="10870"/>
                  </a:lnTo>
                  <a:lnTo>
                    <a:pt x="15827" y="10174"/>
                  </a:lnTo>
                  <a:lnTo>
                    <a:pt x="15681" y="9420"/>
                  </a:lnTo>
                  <a:lnTo>
                    <a:pt x="15443" y="8450"/>
                  </a:lnTo>
                  <a:lnTo>
                    <a:pt x="15152" y="7554"/>
                  </a:lnTo>
                  <a:lnTo>
                    <a:pt x="14914" y="6760"/>
                  </a:lnTo>
                  <a:lnTo>
                    <a:pt x="14526" y="5886"/>
                  </a:lnTo>
                  <a:lnTo>
                    <a:pt x="14142" y="5093"/>
                  </a:lnTo>
                  <a:lnTo>
                    <a:pt x="13807" y="4339"/>
                  </a:lnTo>
                  <a:lnTo>
                    <a:pt x="13278" y="3263"/>
                  </a:lnTo>
                  <a:lnTo>
                    <a:pt x="12987" y="2628"/>
                  </a:lnTo>
                  <a:lnTo>
                    <a:pt x="12811" y="2204"/>
                  </a:lnTo>
                  <a:lnTo>
                    <a:pt x="12714" y="1874"/>
                  </a:lnTo>
                  <a:lnTo>
                    <a:pt x="12674" y="1561"/>
                  </a:lnTo>
                  <a:lnTo>
                    <a:pt x="12674" y="1292"/>
                  </a:lnTo>
                  <a:lnTo>
                    <a:pt x="12890" y="326"/>
                  </a:lnTo>
                  <a:lnTo>
                    <a:pt x="12987" y="127"/>
                  </a:lnTo>
                  <a:lnTo>
                    <a:pt x="1155" y="0"/>
                  </a:lnTo>
                  <a:lnTo>
                    <a:pt x="1001" y="2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43160" y="1569960"/>
              <a:ext cx="471960" cy="338400"/>
            </a:xfrm>
            <a:custGeom>
              <a:avLst/>
              <a:gdLst/>
              <a:ahLst/>
              <a:rect l="0" t="0" r="r" b="b"/>
              <a:pathLst>
                <a:path w="1311" h="940">
                  <a:moveTo>
                    <a:pt x="1311" y="66"/>
                  </a:moveTo>
                  <a:lnTo>
                    <a:pt x="971" y="860"/>
                  </a:lnTo>
                  <a:lnTo>
                    <a:pt x="636" y="940"/>
                  </a:lnTo>
                  <a:lnTo>
                    <a:pt x="468" y="927"/>
                  </a:lnTo>
                  <a:lnTo>
                    <a:pt x="295" y="874"/>
                  </a:lnTo>
                  <a:lnTo>
                    <a:pt x="167" y="781"/>
                  </a:lnTo>
                  <a:lnTo>
                    <a:pt x="79" y="688"/>
                  </a:lnTo>
                  <a:lnTo>
                    <a:pt x="22" y="569"/>
                  </a:lnTo>
                  <a:lnTo>
                    <a:pt x="0" y="463"/>
                  </a:lnTo>
                  <a:lnTo>
                    <a:pt x="8" y="326"/>
                  </a:lnTo>
                  <a:lnTo>
                    <a:pt x="57" y="224"/>
                  </a:lnTo>
                  <a:lnTo>
                    <a:pt x="154" y="145"/>
                  </a:lnTo>
                  <a:lnTo>
                    <a:pt x="273" y="79"/>
                  </a:lnTo>
                  <a:lnTo>
                    <a:pt x="419" y="48"/>
                  </a:lnTo>
                  <a:lnTo>
                    <a:pt x="538" y="26"/>
                  </a:lnTo>
                  <a:lnTo>
                    <a:pt x="675" y="8"/>
                  </a:lnTo>
                  <a:lnTo>
                    <a:pt x="781" y="8"/>
                  </a:lnTo>
                  <a:lnTo>
                    <a:pt x="918" y="0"/>
                  </a:lnTo>
                  <a:lnTo>
                    <a:pt x="1311" y="6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27120" y="1550880"/>
              <a:ext cx="327240" cy="276480"/>
            </a:xfrm>
            <a:custGeom>
              <a:avLst/>
              <a:gdLst/>
              <a:ahLst/>
              <a:rect l="0" t="0" r="r" b="b"/>
              <a:pathLst>
                <a:path w="909" h="768">
                  <a:moveTo>
                    <a:pt x="0" y="92"/>
                  </a:moveTo>
                  <a:lnTo>
                    <a:pt x="167" y="194"/>
                  </a:lnTo>
                  <a:lnTo>
                    <a:pt x="246" y="291"/>
                  </a:lnTo>
                  <a:lnTo>
                    <a:pt x="286" y="393"/>
                  </a:lnTo>
                  <a:lnTo>
                    <a:pt x="295" y="538"/>
                  </a:lnTo>
                  <a:lnTo>
                    <a:pt x="264" y="658"/>
                  </a:lnTo>
                  <a:lnTo>
                    <a:pt x="167" y="768"/>
                  </a:lnTo>
                  <a:lnTo>
                    <a:pt x="909" y="636"/>
                  </a:lnTo>
                  <a:lnTo>
                    <a:pt x="847" y="0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33520" y="1336680"/>
              <a:ext cx="4783320" cy="572040"/>
            </a:xfrm>
            <a:custGeom>
              <a:avLst/>
              <a:gdLst/>
              <a:ahLst/>
              <a:rect l="0" t="0" r="r" b="b"/>
              <a:pathLst>
                <a:path w="13287" h="1589">
                  <a:moveTo>
                    <a:pt x="12573" y="119"/>
                  </a:moveTo>
                  <a:lnTo>
                    <a:pt x="0" y="0"/>
                  </a:lnTo>
                  <a:lnTo>
                    <a:pt x="352" y="48"/>
                  </a:lnTo>
                  <a:lnTo>
                    <a:pt x="480" y="79"/>
                  </a:lnTo>
                  <a:lnTo>
                    <a:pt x="617" y="127"/>
                  </a:lnTo>
                  <a:lnTo>
                    <a:pt x="705" y="198"/>
                  </a:lnTo>
                  <a:lnTo>
                    <a:pt x="811" y="304"/>
                  </a:lnTo>
                  <a:lnTo>
                    <a:pt x="859" y="433"/>
                  </a:lnTo>
                  <a:lnTo>
                    <a:pt x="890" y="565"/>
                  </a:lnTo>
                  <a:lnTo>
                    <a:pt x="903" y="697"/>
                  </a:lnTo>
                  <a:lnTo>
                    <a:pt x="912" y="807"/>
                  </a:lnTo>
                  <a:lnTo>
                    <a:pt x="890" y="975"/>
                  </a:lnTo>
                  <a:lnTo>
                    <a:pt x="859" y="1134"/>
                  </a:lnTo>
                  <a:lnTo>
                    <a:pt x="771" y="1272"/>
                  </a:lnTo>
                  <a:lnTo>
                    <a:pt x="635" y="1413"/>
                  </a:lnTo>
                  <a:lnTo>
                    <a:pt x="463" y="1505"/>
                  </a:lnTo>
                  <a:lnTo>
                    <a:pt x="330" y="1589"/>
                  </a:lnTo>
                  <a:lnTo>
                    <a:pt x="1155" y="1510"/>
                  </a:lnTo>
                  <a:lnTo>
                    <a:pt x="2068" y="1391"/>
                  </a:lnTo>
                  <a:lnTo>
                    <a:pt x="3518" y="1311"/>
                  </a:lnTo>
                  <a:lnTo>
                    <a:pt x="4722" y="1232"/>
                  </a:lnTo>
                  <a:lnTo>
                    <a:pt x="6164" y="1232"/>
                  </a:lnTo>
                  <a:lnTo>
                    <a:pt x="7753" y="1272"/>
                  </a:lnTo>
                  <a:lnTo>
                    <a:pt x="9728" y="1311"/>
                  </a:lnTo>
                  <a:lnTo>
                    <a:pt x="11611" y="1430"/>
                  </a:lnTo>
                  <a:lnTo>
                    <a:pt x="12383" y="1549"/>
                  </a:lnTo>
                  <a:lnTo>
                    <a:pt x="12599" y="1576"/>
                  </a:lnTo>
                  <a:lnTo>
                    <a:pt x="12837" y="1585"/>
                  </a:lnTo>
                  <a:lnTo>
                    <a:pt x="13005" y="1549"/>
                  </a:lnTo>
                  <a:lnTo>
                    <a:pt x="13150" y="1430"/>
                  </a:lnTo>
                  <a:lnTo>
                    <a:pt x="13230" y="1285"/>
                  </a:lnTo>
                  <a:lnTo>
                    <a:pt x="13269" y="1160"/>
                  </a:lnTo>
                  <a:lnTo>
                    <a:pt x="13287" y="1019"/>
                  </a:lnTo>
                  <a:lnTo>
                    <a:pt x="13256" y="768"/>
                  </a:lnTo>
                  <a:lnTo>
                    <a:pt x="13190" y="609"/>
                  </a:lnTo>
                  <a:lnTo>
                    <a:pt x="13093" y="446"/>
                  </a:lnTo>
                  <a:lnTo>
                    <a:pt x="13005" y="339"/>
                  </a:lnTo>
                  <a:lnTo>
                    <a:pt x="12903" y="251"/>
                  </a:lnTo>
                  <a:lnTo>
                    <a:pt x="12749" y="167"/>
                  </a:lnTo>
                  <a:lnTo>
                    <a:pt x="12573" y="119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 txBox="1"/>
          <p:nvPr/>
        </p:nvSpPr>
        <p:spPr>
          <a:xfrm>
            <a:off x="2871720" y="2141640"/>
            <a:ext cx="35226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асть 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тадии выпол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70520" y="3686040"/>
            <a:ext cx="18288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Этап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56040" y="4540320"/>
            <a:ext cx="2387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етодика/Интерв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002120" y="5292720"/>
            <a:ext cx="2625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редставление вы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18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диагно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6095880" y="2562120"/>
            <a:ext cx="2216160" cy="2943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69800" y="1504800"/>
            <a:ext cx="7848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полнение задания - типичные эта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иагностический этап - понимание реальных проблем/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114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бор информации (внешней и внутренне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114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анализ (решение пробл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2120" indent="-11448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рекомендаций - предложение ре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114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рифинги, презентации, семин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114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еспечение понимания/поддержки проек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2120" indent="-11448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лие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2120" indent="-114480">
              <a:lnSpc>
                <a:spcPct val="9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выполнения - внедрение переме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114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чало процесса перем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114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сязаемые результаты —  новые систе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2120" indent="-114480">
              <a:lnSpc>
                <a:spcPct val="9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инансирование, покупатели и т. д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62120" indent="-114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ланы действий и механизмы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932040" y="1233360"/>
            <a:ext cx="78487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ходы, используемые при выполнении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27000" y="1714680"/>
            <a:ext cx="78487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ение интервью и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менивайтесь информацией, но не предоставляйте ее слишком м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вергайте исследуемый предмет сомнению и стремитесь к подтверждению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авайте по мере возможности количественные оцен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ряйте логичность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риф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446800" y="4532400"/>
            <a:ext cx="1147680" cy="1582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3160" y="3517920"/>
            <a:ext cx="1276200" cy="2602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928800" y="1109520"/>
            <a:ext cx="79153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тервью является, пожалуй, самым распространенным методом сбора и обработки данных для консультантов по вопросам управления, посколь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961920" y="2133720"/>
            <a:ext cx="784872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еспечивает получение текущей информации из ключевых внутренних и внешних источ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овлекает консультанта в дела предприятия-клиента на многих уровн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зволяет поддерживать обратную связь и проводить быструю корректировку подходов и плана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страивает взаимоотношения с кли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957240" y="1204920"/>
            <a:ext cx="79153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тервью могут быть целевыми или откры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90720" y="1914480"/>
            <a:ext cx="75056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Целевое интерв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пользует  целенаправленный сценар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меет четко обозначенные и поддающиеся количественному определению ц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полагает краткие и конкретные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ключает сравнение ответов ряда опрашиваем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крытое интерв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олее свободно по фор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риентировано на сбор суждений, восприятий и м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следует отношения и ощу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полагает понимание динамики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071720" y="1004760"/>
            <a:ext cx="702000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готов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 проведению интервью включает пять основных ша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4880" y="1390680"/>
            <a:ext cx="1352520" cy="97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19200" y="2324160"/>
            <a:ext cx="1352520" cy="97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95720" y="3257640"/>
            <a:ext cx="1352520" cy="97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810400" y="4133880"/>
            <a:ext cx="1476360" cy="97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05640" y="5073480"/>
            <a:ext cx="1352520" cy="97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11880" y="2509920"/>
            <a:ext cx="483120" cy="382320"/>
          </a:xfrm>
          <a:custGeom>
            <a:avLst/>
            <a:gdLst/>
            <a:ahLst/>
            <a:rect l="0" t="0" r="r" b="b"/>
            <a:pathLst>
              <a:path w="1342" h="1062">
                <a:moveTo>
                  <a:pt x="154" y="0"/>
                </a:moveTo>
                <a:lnTo>
                  <a:pt x="0" y="220"/>
                </a:lnTo>
                <a:lnTo>
                  <a:pt x="885" y="841"/>
                </a:lnTo>
                <a:lnTo>
                  <a:pt x="731" y="1062"/>
                </a:lnTo>
                <a:lnTo>
                  <a:pt x="1342" y="997"/>
                </a:lnTo>
                <a:lnTo>
                  <a:pt x="1194" y="400"/>
                </a:lnTo>
                <a:lnTo>
                  <a:pt x="1040" y="620"/>
                </a:lnTo>
                <a:lnTo>
                  <a:pt x="15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526200" y="3500640"/>
            <a:ext cx="483120" cy="382320"/>
          </a:xfrm>
          <a:custGeom>
            <a:avLst/>
            <a:gdLst/>
            <a:ahLst/>
            <a:rect l="0" t="0" r="r" b="b"/>
            <a:pathLst>
              <a:path w="1342" h="1062">
                <a:moveTo>
                  <a:pt x="154" y="0"/>
                </a:moveTo>
                <a:lnTo>
                  <a:pt x="0" y="220"/>
                </a:lnTo>
                <a:lnTo>
                  <a:pt x="885" y="841"/>
                </a:lnTo>
                <a:lnTo>
                  <a:pt x="731" y="1062"/>
                </a:lnTo>
                <a:lnTo>
                  <a:pt x="1342" y="997"/>
                </a:lnTo>
                <a:lnTo>
                  <a:pt x="1194" y="400"/>
                </a:lnTo>
                <a:lnTo>
                  <a:pt x="1040" y="620"/>
                </a:lnTo>
                <a:lnTo>
                  <a:pt x="15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02720" y="4434120"/>
            <a:ext cx="483120" cy="382320"/>
          </a:xfrm>
          <a:custGeom>
            <a:avLst/>
            <a:gdLst/>
            <a:ahLst/>
            <a:rect l="0" t="0" r="r" b="b"/>
            <a:pathLst>
              <a:path w="1342" h="1062">
                <a:moveTo>
                  <a:pt x="154" y="0"/>
                </a:moveTo>
                <a:lnTo>
                  <a:pt x="0" y="220"/>
                </a:lnTo>
                <a:lnTo>
                  <a:pt x="885" y="841"/>
                </a:lnTo>
                <a:lnTo>
                  <a:pt x="731" y="1062"/>
                </a:lnTo>
                <a:lnTo>
                  <a:pt x="1342" y="997"/>
                </a:lnTo>
                <a:lnTo>
                  <a:pt x="1194" y="400"/>
                </a:lnTo>
                <a:lnTo>
                  <a:pt x="1040" y="620"/>
                </a:lnTo>
                <a:lnTo>
                  <a:pt x="15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41080" y="5291280"/>
            <a:ext cx="483120" cy="382320"/>
          </a:xfrm>
          <a:custGeom>
            <a:avLst/>
            <a:gdLst/>
            <a:ahLst/>
            <a:rect l="0" t="0" r="r" b="b"/>
            <a:pathLst>
              <a:path w="1342" h="1062">
                <a:moveTo>
                  <a:pt x="154" y="0"/>
                </a:moveTo>
                <a:lnTo>
                  <a:pt x="0" y="220"/>
                </a:lnTo>
                <a:lnTo>
                  <a:pt x="885" y="841"/>
                </a:lnTo>
                <a:lnTo>
                  <a:pt x="731" y="1062"/>
                </a:lnTo>
                <a:lnTo>
                  <a:pt x="1342" y="997"/>
                </a:lnTo>
                <a:lnTo>
                  <a:pt x="1194" y="400"/>
                </a:lnTo>
                <a:lnTo>
                  <a:pt x="1040" y="620"/>
                </a:lnTo>
                <a:lnTo>
                  <a:pt x="15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98400" y="1430280"/>
            <a:ext cx="143028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Шаг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ормул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498760" y="2354400"/>
            <a:ext cx="132084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Шаг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лана/сценар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146480" y="3306600"/>
            <a:ext cx="1122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Шаг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ц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797440" y="4173480"/>
            <a:ext cx="150192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Шаг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б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фактографичес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7585200" y="5145120"/>
            <a:ext cx="11415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Шаг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рга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909720" y="1119240"/>
            <a:ext cx="79153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интервью состоит из четырех эта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76240" y="1676520"/>
            <a:ext cx="1695600" cy="123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52720" y="2914560"/>
            <a:ext cx="1695600" cy="123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24600" y="4038480"/>
            <a:ext cx="1695600" cy="123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5200560"/>
            <a:ext cx="1695600" cy="123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03200" y="3187440"/>
            <a:ext cx="480600" cy="367560"/>
          </a:xfrm>
          <a:custGeom>
            <a:avLst/>
            <a:gdLst/>
            <a:ahLst/>
            <a:rect l="0" t="0" r="r" b="b"/>
            <a:pathLst>
              <a:path w="1335" h="1021">
                <a:moveTo>
                  <a:pt x="139" y="0"/>
                </a:moveTo>
                <a:lnTo>
                  <a:pt x="0" y="199"/>
                </a:lnTo>
                <a:lnTo>
                  <a:pt x="885" y="821"/>
                </a:lnTo>
                <a:lnTo>
                  <a:pt x="745" y="1021"/>
                </a:lnTo>
                <a:lnTo>
                  <a:pt x="1335" y="987"/>
                </a:lnTo>
                <a:lnTo>
                  <a:pt x="1166" y="421"/>
                </a:lnTo>
                <a:lnTo>
                  <a:pt x="1026" y="620"/>
                </a:lnTo>
                <a:lnTo>
                  <a:pt x="139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0600" y="4502160"/>
            <a:ext cx="480600" cy="367560"/>
          </a:xfrm>
          <a:custGeom>
            <a:avLst/>
            <a:gdLst/>
            <a:ahLst/>
            <a:rect l="0" t="0" r="r" b="b"/>
            <a:pathLst>
              <a:path w="1335" h="1021">
                <a:moveTo>
                  <a:pt x="139" y="0"/>
                </a:moveTo>
                <a:lnTo>
                  <a:pt x="0" y="199"/>
                </a:lnTo>
                <a:lnTo>
                  <a:pt x="885" y="821"/>
                </a:lnTo>
                <a:lnTo>
                  <a:pt x="745" y="1021"/>
                </a:lnTo>
                <a:lnTo>
                  <a:pt x="1335" y="987"/>
                </a:lnTo>
                <a:lnTo>
                  <a:pt x="1166" y="421"/>
                </a:lnTo>
                <a:lnTo>
                  <a:pt x="1026" y="620"/>
                </a:lnTo>
                <a:lnTo>
                  <a:pt x="139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13400" y="5626080"/>
            <a:ext cx="480600" cy="367560"/>
          </a:xfrm>
          <a:custGeom>
            <a:avLst/>
            <a:gdLst/>
            <a:ahLst/>
            <a:rect l="0" t="0" r="r" b="b"/>
            <a:pathLst>
              <a:path w="1335" h="1021">
                <a:moveTo>
                  <a:pt x="139" y="0"/>
                </a:moveTo>
                <a:lnTo>
                  <a:pt x="0" y="199"/>
                </a:lnTo>
                <a:lnTo>
                  <a:pt x="885" y="821"/>
                </a:lnTo>
                <a:lnTo>
                  <a:pt x="745" y="1021"/>
                </a:lnTo>
                <a:lnTo>
                  <a:pt x="1335" y="987"/>
                </a:lnTo>
                <a:lnTo>
                  <a:pt x="1166" y="421"/>
                </a:lnTo>
                <a:lnTo>
                  <a:pt x="1026" y="620"/>
                </a:lnTo>
                <a:lnTo>
                  <a:pt x="139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3600" y="1790640"/>
            <a:ext cx="132552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ервая се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13200" y="3009960"/>
            <a:ext cx="156672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 корректи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цен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194440" y="4114800"/>
            <a:ext cx="1593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ве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ледующей с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223040" y="5315040"/>
            <a:ext cx="117324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ве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тог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езульт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838760" y="1581120"/>
            <a:ext cx="3753000" cy="409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500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581120"/>
            <a:ext cx="3753000" cy="410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b5006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47720" y="976320"/>
            <a:ext cx="79153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овы некоторые возможные консультационные продукты и клиенты в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51040" y="1676520"/>
            <a:ext cx="36259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дук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Бизнес-планы (в т.ч. и для получения финансирова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истемы финансового управления  (в т.ч. по контролю и сокращению затра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иск партнеров для создания совместного предприят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ыявление поставщиков оборудования и др. ресур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иск ры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ка информационных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67360" y="1619280"/>
            <a:ext cx="39243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91040" y="1695600"/>
            <a:ext cx="37908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65840" y="1695600"/>
            <a:ext cx="3625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енциальные кли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овые частные комп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иватизированные пред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Зарубежные фир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принимательские фонды/бан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нвестиционные фон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фессиональные объединения/ассоц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39000" y="682560"/>
            <a:ext cx="2435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Что такое консультирова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932040" y="123336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ставление результатов диагностики и рекомендаций - основные мо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79480" y="2124000"/>
            <a:ext cx="784872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редоточьте внимание на проблемах, которые могут быть решены в данных временных рам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збегайте чрезмерно сложных ре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осредоточьтесь на выработке конкретных полезных продуктов на этапе внед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готовьте конкретные “пакеты” взаимосвязанных рекоменд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беспечьте выполнение всех работ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932040" y="123336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едостережения, о которых надо помнить в процессе консуль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79480" y="2019240"/>
            <a:ext cx="784872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 берите на себя чрезмерных обязательств и не давайте чрезмерных обещ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збегайте быстрых “решений” для слож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Используйте в качестве “со-консультантов” подходящих люд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Делайте окончательные рекомендации “совместными” , т. е. результатом общих усилий менеджеров и консульта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е забывайте о постоянном открытом общении и информир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дчеркивайте положительное значение перем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ощряйте участие сотруд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700680" y="687240"/>
            <a:ext cx="20001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932040" y="123336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овы Ваши предложения по оплате услуг в области управленческого консульт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165400" y="2762280"/>
            <a:ext cx="5302080" cy="22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ак строится оплата консультационных  услу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результатам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затратам времени и материа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участию в прибы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 фиксированной це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90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бинированн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718320" y="685800"/>
            <a:ext cx="2019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Выполнение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32040" y="1233360"/>
            <a:ext cx="7848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ому следует заниматься консультирова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27000" y="1714680"/>
            <a:ext cx="7848720" cy="15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ицам, имеющим подготовку и обладающим специальными знаниями в тех областях (например, финансовый контроль, системы бухгалтерского учета, маркетинг, управление производством), которые связаны с видом деятельности предприят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ытным менеджерам, работавшим ранее над решением разнообразных 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45000"/>
              <a:buFont typeface="Monotype Sorts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Лицам, обладающим хорошими связями с потенциальными инвесторами или потребите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98920" y="3860640"/>
            <a:ext cx="4043520" cy="252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039000" y="682560"/>
            <a:ext cx="2435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Что такое консультирова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2960" y="1222200"/>
            <a:ext cx="7848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r" pos="719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роцесс консультирования, как правило, включает четыре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2590920"/>
            <a:ext cx="1619280" cy="14479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0000"/>
              </a:gs>
            </a:gsLst>
            <a:path path="rect">
              <a:fillToRect l="100000" t="100000" r="0" b="0"/>
            </a:path>
          </a:gradFill>
          <a:ln w="12600">
            <a:solidFill>
              <a:srgbClr val="00353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Маркет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85880" y="2571840"/>
            <a:ext cx="1619280" cy="14479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353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Предло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6120" y="2590920"/>
            <a:ext cx="1619280" cy="14479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353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Конкрет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работа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9080" y="2324160"/>
            <a:ext cx="7840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93800" y="2343240"/>
            <a:ext cx="8082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746600" y="2324160"/>
            <a:ext cx="8780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4419720"/>
            <a:ext cx="213372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Найдите клиента, у которого есть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цените возможности руководства по работе над эт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610000" y="4438800"/>
            <a:ext cx="2133720" cy="1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еделите ключевые вопросы, стоящие перед 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тделите причину от след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айте рабочую программу  по стоящим вопрос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6120" y="4419720"/>
            <a:ext cx="213372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рганизуйте работу с клиентом над решением обозначенных пробл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бедите клиента действовать согласно вашим рекомендациям и плану их внед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67440" y="681120"/>
            <a:ext cx="2435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Что такое консультирова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921360" y="2610000"/>
            <a:ext cx="1619280" cy="1447920"/>
          </a:xfrm>
          <a:prstGeom prst="rect">
            <a:avLst/>
          </a:prstGeom>
          <a:gradFill rotWithShape="0">
            <a:gsLst>
              <a:gs pos="0">
                <a:srgbClr val="005400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353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Контро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 Cyr"/>
                <a:ea typeface="Times New Roman Cyr"/>
              </a:rPr>
              <a:t>выпол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981840" y="2343240"/>
            <a:ext cx="8589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Этап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21360" y="4438800"/>
            <a:ext cx="213372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азработайте план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Установите обяза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1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Определите критерии 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2038320" y="1333440"/>
            <a:ext cx="5715360" cy="5170680"/>
            <a:chOff x="2038320" y="1333440"/>
            <a:chExt cx="5715360" cy="5170680"/>
          </a:xfrm>
        </p:grpSpPr>
        <p:sp>
          <p:nvSpPr>
            <p:cNvPr id="159" name=""/>
            <p:cNvSpPr/>
            <p:nvPr/>
          </p:nvSpPr>
          <p:spPr>
            <a:xfrm>
              <a:off x="2486160" y="5999040"/>
              <a:ext cx="1019520" cy="505080"/>
            </a:xfrm>
            <a:custGeom>
              <a:avLst/>
              <a:gdLst/>
              <a:ahLst/>
              <a:rect l="0" t="0" r="r" b="b"/>
              <a:pathLst>
                <a:path w="2832" h="1403">
                  <a:moveTo>
                    <a:pt x="1813" y="0"/>
                  </a:moveTo>
                  <a:lnTo>
                    <a:pt x="370" y="119"/>
                  </a:lnTo>
                  <a:lnTo>
                    <a:pt x="224" y="211"/>
                  </a:lnTo>
                  <a:lnTo>
                    <a:pt x="136" y="317"/>
                  </a:lnTo>
                  <a:lnTo>
                    <a:pt x="57" y="436"/>
                  </a:lnTo>
                  <a:lnTo>
                    <a:pt x="0" y="635"/>
                  </a:lnTo>
                  <a:lnTo>
                    <a:pt x="8" y="856"/>
                  </a:lnTo>
                  <a:lnTo>
                    <a:pt x="57" y="975"/>
                  </a:lnTo>
                  <a:lnTo>
                    <a:pt x="136" y="1107"/>
                  </a:lnTo>
                  <a:lnTo>
                    <a:pt x="286" y="1218"/>
                  </a:lnTo>
                  <a:lnTo>
                    <a:pt x="463" y="1310"/>
                  </a:lnTo>
                  <a:lnTo>
                    <a:pt x="648" y="1363"/>
                  </a:lnTo>
                  <a:lnTo>
                    <a:pt x="802" y="1390"/>
                  </a:lnTo>
                  <a:lnTo>
                    <a:pt x="1009" y="1403"/>
                  </a:lnTo>
                  <a:lnTo>
                    <a:pt x="996" y="1390"/>
                  </a:lnTo>
                  <a:lnTo>
                    <a:pt x="2117" y="1297"/>
                  </a:lnTo>
                  <a:lnTo>
                    <a:pt x="2832" y="0"/>
                  </a:lnTo>
                  <a:lnTo>
                    <a:pt x="1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38320" y="1333440"/>
              <a:ext cx="5715360" cy="5166000"/>
            </a:xfrm>
            <a:custGeom>
              <a:avLst/>
              <a:gdLst/>
              <a:ahLst/>
              <a:rect l="0" t="0" r="r" b="b"/>
              <a:pathLst>
                <a:path w="15876" h="14350">
                  <a:moveTo>
                    <a:pt x="1001" y="26"/>
                  </a:moveTo>
                  <a:lnTo>
                    <a:pt x="890" y="52"/>
                  </a:lnTo>
                  <a:lnTo>
                    <a:pt x="745" y="114"/>
                  </a:lnTo>
                  <a:lnTo>
                    <a:pt x="568" y="246"/>
                  </a:lnTo>
                  <a:lnTo>
                    <a:pt x="335" y="436"/>
                  </a:lnTo>
                  <a:lnTo>
                    <a:pt x="167" y="643"/>
                  </a:lnTo>
                  <a:lnTo>
                    <a:pt x="70" y="859"/>
                  </a:lnTo>
                  <a:lnTo>
                    <a:pt x="30" y="1053"/>
                  </a:lnTo>
                  <a:lnTo>
                    <a:pt x="0" y="1305"/>
                  </a:lnTo>
                  <a:lnTo>
                    <a:pt x="0" y="1547"/>
                  </a:lnTo>
                  <a:lnTo>
                    <a:pt x="39" y="1755"/>
                  </a:lnTo>
                  <a:lnTo>
                    <a:pt x="70" y="1966"/>
                  </a:lnTo>
                  <a:lnTo>
                    <a:pt x="119" y="2151"/>
                  </a:lnTo>
                  <a:lnTo>
                    <a:pt x="282" y="2641"/>
                  </a:lnTo>
                  <a:lnTo>
                    <a:pt x="507" y="3183"/>
                  </a:lnTo>
                  <a:lnTo>
                    <a:pt x="842" y="3779"/>
                  </a:lnTo>
                  <a:lnTo>
                    <a:pt x="1177" y="4458"/>
                  </a:lnTo>
                  <a:lnTo>
                    <a:pt x="1516" y="5053"/>
                  </a:lnTo>
                  <a:lnTo>
                    <a:pt x="1803" y="5648"/>
                  </a:lnTo>
                  <a:lnTo>
                    <a:pt x="2143" y="6363"/>
                  </a:lnTo>
                  <a:lnTo>
                    <a:pt x="2429" y="7277"/>
                  </a:lnTo>
                  <a:lnTo>
                    <a:pt x="2623" y="8070"/>
                  </a:lnTo>
                  <a:lnTo>
                    <a:pt x="2817" y="9062"/>
                  </a:lnTo>
                  <a:lnTo>
                    <a:pt x="2910" y="10134"/>
                  </a:lnTo>
                  <a:lnTo>
                    <a:pt x="3055" y="11087"/>
                  </a:lnTo>
                  <a:lnTo>
                    <a:pt x="3055" y="11602"/>
                  </a:lnTo>
                  <a:lnTo>
                    <a:pt x="3055" y="12286"/>
                  </a:lnTo>
                  <a:lnTo>
                    <a:pt x="3055" y="12723"/>
                  </a:lnTo>
                  <a:lnTo>
                    <a:pt x="3016" y="13133"/>
                  </a:lnTo>
                  <a:lnTo>
                    <a:pt x="2861" y="13556"/>
                  </a:lnTo>
                  <a:lnTo>
                    <a:pt x="2760" y="13807"/>
                  </a:lnTo>
                  <a:lnTo>
                    <a:pt x="2623" y="14032"/>
                  </a:lnTo>
                  <a:lnTo>
                    <a:pt x="2487" y="14178"/>
                  </a:lnTo>
                  <a:lnTo>
                    <a:pt x="2390" y="14262"/>
                  </a:lnTo>
                  <a:lnTo>
                    <a:pt x="2284" y="14350"/>
                  </a:lnTo>
                  <a:lnTo>
                    <a:pt x="3699" y="14222"/>
                  </a:lnTo>
                  <a:lnTo>
                    <a:pt x="6433" y="13913"/>
                  </a:lnTo>
                  <a:lnTo>
                    <a:pt x="8696" y="13675"/>
                  </a:lnTo>
                  <a:lnTo>
                    <a:pt x="11294" y="13437"/>
                  </a:lnTo>
                  <a:lnTo>
                    <a:pt x="13230" y="13358"/>
                  </a:lnTo>
                  <a:lnTo>
                    <a:pt x="14720" y="13397"/>
                  </a:lnTo>
                  <a:lnTo>
                    <a:pt x="15104" y="13397"/>
                  </a:lnTo>
                  <a:lnTo>
                    <a:pt x="15346" y="13358"/>
                  </a:lnTo>
                  <a:lnTo>
                    <a:pt x="15492" y="13159"/>
                  </a:lnTo>
                  <a:lnTo>
                    <a:pt x="15633" y="12939"/>
                  </a:lnTo>
                  <a:lnTo>
                    <a:pt x="15756" y="12617"/>
                  </a:lnTo>
                  <a:lnTo>
                    <a:pt x="15827" y="12224"/>
                  </a:lnTo>
                  <a:lnTo>
                    <a:pt x="15876" y="11849"/>
                  </a:lnTo>
                  <a:lnTo>
                    <a:pt x="15876" y="11298"/>
                  </a:lnTo>
                  <a:lnTo>
                    <a:pt x="15853" y="10870"/>
                  </a:lnTo>
                  <a:lnTo>
                    <a:pt x="15827" y="10174"/>
                  </a:lnTo>
                  <a:lnTo>
                    <a:pt x="15681" y="9420"/>
                  </a:lnTo>
                  <a:lnTo>
                    <a:pt x="15443" y="8450"/>
                  </a:lnTo>
                  <a:lnTo>
                    <a:pt x="15152" y="7554"/>
                  </a:lnTo>
                  <a:lnTo>
                    <a:pt x="14914" y="6760"/>
                  </a:lnTo>
                  <a:lnTo>
                    <a:pt x="14526" y="5886"/>
                  </a:lnTo>
                  <a:lnTo>
                    <a:pt x="14142" y="5093"/>
                  </a:lnTo>
                  <a:lnTo>
                    <a:pt x="13807" y="4339"/>
                  </a:lnTo>
                  <a:lnTo>
                    <a:pt x="13278" y="3263"/>
                  </a:lnTo>
                  <a:lnTo>
                    <a:pt x="12987" y="2628"/>
                  </a:lnTo>
                  <a:lnTo>
                    <a:pt x="12811" y="2204"/>
                  </a:lnTo>
                  <a:lnTo>
                    <a:pt x="12714" y="1874"/>
                  </a:lnTo>
                  <a:lnTo>
                    <a:pt x="12674" y="1561"/>
                  </a:lnTo>
                  <a:lnTo>
                    <a:pt x="12674" y="1292"/>
                  </a:lnTo>
                  <a:lnTo>
                    <a:pt x="12890" y="326"/>
                  </a:lnTo>
                  <a:lnTo>
                    <a:pt x="12987" y="127"/>
                  </a:lnTo>
                  <a:lnTo>
                    <a:pt x="1155" y="0"/>
                  </a:lnTo>
                  <a:lnTo>
                    <a:pt x="1001" y="2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38560" y="1569960"/>
              <a:ext cx="471960" cy="338400"/>
            </a:xfrm>
            <a:custGeom>
              <a:avLst/>
              <a:gdLst/>
              <a:ahLst/>
              <a:rect l="0" t="0" r="r" b="b"/>
              <a:pathLst>
                <a:path w="1311" h="940">
                  <a:moveTo>
                    <a:pt x="1311" y="66"/>
                  </a:moveTo>
                  <a:lnTo>
                    <a:pt x="971" y="860"/>
                  </a:lnTo>
                  <a:lnTo>
                    <a:pt x="636" y="940"/>
                  </a:lnTo>
                  <a:lnTo>
                    <a:pt x="468" y="927"/>
                  </a:lnTo>
                  <a:lnTo>
                    <a:pt x="295" y="874"/>
                  </a:lnTo>
                  <a:lnTo>
                    <a:pt x="167" y="781"/>
                  </a:lnTo>
                  <a:lnTo>
                    <a:pt x="79" y="688"/>
                  </a:lnTo>
                  <a:lnTo>
                    <a:pt x="22" y="569"/>
                  </a:lnTo>
                  <a:lnTo>
                    <a:pt x="0" y="463"/>
                  </a:lnTo>
                  <a:lnTo>
                    <a:pt x="8" y="326"/>
                  </a:lnTo>
                  <a:lnTo>
                    <a:pt x="57" y="224"/>
                  </a:lnTo>
                  <a:lnTo>
                    <a:pt x="154" y="145"/>
                  </a:lnTo>
                  <a:lnTo>
                    <a:pt x="273" y="79"/>
                  </a:lnTo>
                  <a:lnTo>
                    <a:pt x="419" y="48"/>
                  </a:lnTo>
                  <a:lnTo>
                    <a:pt x="538" y="26"/>
                  </a:lnTo>
                  <a:lnTo>
                    <a:pt x="675" y="8"/>
                  </a:lnTo>
                  <a:lnTo>
                    <a:pt x="781" y="8"/>
                  </a:lnTo>
                  <a:lnTo>
                    <a:pt x="918" y="0"/>
                  </a:lnTo>
                  <a:lnTo>
                    <a:pt x="1311" y="66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2520" y="1550880"/>
              <a:ext cx="327240" cy="276480"/>
            </a:xfrm>
            <a:custGeom>
              <a:avLst/>
              <a:gdLst/>
              <a:ahLst/>
              <a:rect l="0" t="0" r="r" b="b"/>
              <a:pathLst>
                <a:path w="909" h="768">
                  <a:moveTo>
                    <a:pt x="0" y="92"/>
                  </a:moveTo>
                  <a:lnTo>
                    <a:pt x="167" y="194"/>
                  </a:lnTo>
                  <a:lnTo>
                    <a:pt x="246" y="291"/>
                  </a:lnTo>
                  <a:lnTo>
                    <a:pt x="286" y="393"/>
                  </a:lnTo>
                  <a:lnTo>
                    <a:pt x="295" y="538"/>
                  </a:lnTo>
                  <a:lnTo>
                    <a:pt x="264" y="658"/>
                  </a:lnTo>
                  <a:lnTo>
                    <a:pt x="167" y="768"/>
                  </a:lnTo>
                  <a:lnTo>
                    <a:pt x="909" y="636"/>
                  </a:lnTo>
                  <a:lnTo>
                    <a:pt x="847" y="0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28920" y="1336680"/>
              <a:ext cx="4783320" cy="572040"/>
            </a:xfrm>
            <a:custGeom>
              <a:avLst/>
              <a:gdLst/>
              <a:ahLst/>
              <a:rect l="0" t="0" r="r" b="b"/>
              <a:pathLst>
                <a:path w="13287" h="1589">
                  <a:moveTo>
                    <a:pt x="12573" y="119"/>
                  </a:moveTo>
                  <a:lnTo>
                    <a:pt x="0" y="0"/>
                  </a:lnTo>
                  <a:lnTo>
                    <a:pt x="352" y="48"/>
                  </a:lnTo>
                  <a:lnTo>
                    <a:pt x="480" y="79"/>
                  </a:lnTo>
                  <a:lnTo>
                    <a:pt x="617" y="127"/>
                  </a:lnTo>
                  <a:lnTo>
                    <a:pt x="705" y="198"/>
                  </a:lnTo>
                  <a:lnTo>
                    <a:pt x="811" y="304"/>
                  </a:lnTo>
                  <a:lnTo>
                    <a:pt x="859" y="433"/>
                  </a:lnTo>
                  <a:lnTo>
                    <a:pt x="890" y="565"/>
                  </a:lnTo>
                  <a:lnTo>
                    <a:pt x="903" y="697"/>
                  </a:lnTo>
                  <a:lnTo>
                    <a:pt x="912" y="807"/>
                  </a:lnTo>
                  <a:lnTo>
                    <a:pt x="890" y="975"/>
                  </a:lnTo>
                  <a:lnTo>
                    <a:pt x="859" y="1134"/>
                  </a:lnTo>
                  <a:lnTo>
                    <a:pt x="771" y="1272"/>
                  </a:lnTo>
                  <a:lnTo>
                    <a:pt x="635" y="1413"/>
                  </a:lnTo>
                  <a:lnTo>
                    <a:pt x="463" y="1505"/>
                  </a:lnTo>
                  <a:lnTo>
                    <a:pt x="330" y="1589"/>
                  </a:lnTo>
                  <a:lnTo>
                    <a:pt x="1155" y="1510"/>
                  </a:lnTo>
                  <a:lnTo>
                    <a:pt x="2068" y="1391"/>
                  </a:lnTo>
                  <a:lnTo>
                    <a:pt x="3518" y="1311"/>
                  </a:lnTo>
                  <a:lnTo>
                    <a:pt x="4722" y="1232"/>
                  </a:lnTo>
                  <a:lnTo>
                    <a:pt x="6164" y="1232"/>
                  </a:lnTo>
                  <a:lnTo>
                    <a:pt x="7753" y="1272"/>
                  </a:lnTo>
                  <a:lnTo>
                    <a:pt x="9728" y="1311"/>
                  </a:lnTo>
                  <a:lnTo>
                    <a:pt x="11611" y="1430"/>
                  </a:lnTo>
                  <a:lnTo>
                    <a:pt x="12383" y="1549"/>
                  </a:lnTo>
                  <a:lnTo>
                    <a:pt x="12599" y="1576"/>
                  </a:lnTo>
                  <a:lnTo>
                    <a:pt x="12837" y="1585"/>
                  </a:lnTo>
                  <a:lnTo>
                    <a:pt x="13005" y="1549"/>
                  </a:lnTo>
                  <a:lnTo>
                    <a:pt x="13150" y="1430"/>
                  </a:lnTo>
                  <a:lnTo>
                    <a:pt x="13230" y="1285"/>
                  </a:lnTo>
                  <a:lnTo>
                    <a:pt x="13269" y="1160"/>
                  </a:lnTo>
                  <a:lnTo>
                    <a:pt x="13287" y="1019"/>
                  </a:lnTo>
                  <a:lnTo>
                    <a:pt x="13256" y="768"/>
                  </a:lnTo>
                  <a:lnTo>
                    <a:pt x="13190" y="609"/>
                  </a:lnTo>
                  <a:lnTo>
                    <a:pt x="13093" y="446"/>
                  </a:lnTo>
                  <a:lnTo>
                    <a:pt x="13005" y="339"/>
                  </a:lnTo>
                  <a:lnTo>
                    <a:pt x="12903" y="251"/>
                  </a:lnTo>
                  <a:lnTo>
                    <a:pt x="12749" y="167"/>
                  </a:lnTo>
                  <a:lnTo>
                    <a:pt x="12573" y="119"/>
                  </a:lnTo>
                  <a:close/>
                </a:path>
              </a:pathLst>
            </a:custGeom>
            <a:gradFill rotWithShape="0">
              <a:gsLst>
                <a:gs pos="0">
                  <a:srgbClr val="e3beff"/>
                </a:gs>
                <a:gs pos="50000">
                  <a:srgbClr val="000000"/>
                </a:gs>
                <a:gs pos="100000">
                  <a:srgbClr val="e3beff"/>
                </a:gs>
              </a:gsLst>
              <a:lin ang="8100000"/>
            </a:gradFill>
            <a:ln w="25560">
              <a:solidFill>
                <a:srgbClr val="7b00e4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2890800" y="2127240"/>
            <a:ext cx="35607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Часть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нимание россий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кл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41720" y="3666960"/>
            <a:ext cx="400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Дилемма российских менедж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3360" y="4795920"/>
            <a:ext cx="34545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реодоление сопроти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менеджеров ценить сов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из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1447920"/>
            <a:ext cx="769608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РЫНОК УСЛУГ ПО УПРАВЛЕНЧЕСКОМУ КОНСУЛЬТИРОВА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Трансформаци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потребностей</a:t>
            </a: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в управленческих навы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спрос</a:t>
            </a:r>
            <a:r>
              <a:rPr b="0" lang="en-US" sz="20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 на управленческие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3276720"/>
            <a:ext cx="1219680" cy="1676880"/>
          </a:xfrm>
          <a:custGeom>
            <a:avLst/>
            <a:gdLst/>
            <a:ahLst/>
            <a:rect l="0" t="0" r="r" b="b"/>
            <a:pathLst>
              <a:path w="3388" h="4658">
                <a:moveTo>
                  <a:pt x="3388" y="1551"/>
                </a:moveTo>
                <a:lnTo>
                  <a:pt x="3388" y="3102"/>
                </a:lnTo>
                <a:lnTo>
                  <a:pt x="1016" y="3102"/>
                </a:lnTo>
                <a:lnTo>
                  <a:pt x="1016" y="4658"/>
                </a:lnTo>
                <a:lnTo>
                  <a:pt x="0" y="2329"/>
                </a:lnTo>
                <a:lnTo>
                  <a:pt x="1016" y="0"/>
                </a:lnTo>
                <a:lnTo>
                  <a:pt x="1016" y="1551"/>
                </a:lnTo>
                <a:lnTo>
                  <a:pt x="3388" y="1551"/>
                </a:lnTo>
                <a:close/>
              </a:path>
            </a:pathLst>
          </a:custGeom>
          <a:solidFill>
            <a:srgbClr val="edede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781680" y="685800"/>
            <a:ext cx="19303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81d58"/>
                </a:solidFill>
                <a:latin typeface="Times New Roman Cyr"/>
                <a:ea typeface="Times New Roman Cyr"/>
              </a:rPr>
              <a:t>Понимание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yron Battle</dc:creator>
  <dc:description/>
  <dc:language>en-US</dc:language>
  <cp:lastModifiedBy>Byron Battle</cp:lastModifiedBy>
  <cp:revision>0</cp:revision>
  <dc:subject>Seminar for Russians</dc:subject>
  <dc:title>Çàãîëîâîê ñëàéäà îòñóòñòâóåò</dc:title>
</cp:coreProperties>
</file>